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C74-B4E2-45A3-B0B4-D834D38D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A2E-237A-4BCC-91D8-E5EBC4E6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9D8-9BDB-4998-8CDC-C1089CA1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946-0997-41AC-BA89-2DCB010C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F15-7A76-4CBC-B1E4-2C6FB283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B51-284D-4EE7-8460-10E2C3C6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C06-D24F-4D2F-B76B-ED797E31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F04-1C0C-47B8-8681-DD2E6008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E80-CC5B-45A9-B65A-D205575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2EC-D312-494D-B202-D1E3AEA9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62A-91A6-4D62-9C54-3B032E65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181-6FD1-4883-805E-14736DC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AA9A-487B-42AE-93C6-F1DC29460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76212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86200" y="2743200"/>
            <a:ext cx="12286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96080" y="12193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24480" y="5867280"/>
            <a:ext cx="762120" cy="635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895480" y="4191120"/>
            <a:ext cx="12286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53080" y="1066680"/>
            <a:ext cx="555840" cy="555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124080" y="3200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3623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229600" y="205740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562720" y="487692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391520" y="5943600"/>
            <a:ext cx="5554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81280" y="2362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82880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620120" y="31240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572000" y="419112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8588520" y="5562720"/>
            <a:ext cx="5554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907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477120" y="396252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895480" y="320040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934320" y="5943600"/>
            <a:ext cx="5554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6920" y="533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34120" y="457200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28800" y="24382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105520" y="5943600"/>
            <a:ext cx="5554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267080" y="548640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114800" y="480060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04920" y="2666880"/>
            <a:ext cx="1096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685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352680" y="457200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638680"/>
            <a:ext cx="555840" cy="555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219320" y="2133720"/>
            <a:ext cx="10969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90920" y="38098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676520" y="630252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057400" y="1447920"/>
            <a:ext cx="10969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10280" y="1905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3520" y="49528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971800" y="762120"/>
            <a:ext cx="10969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012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350532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657600" y="228600"/>
            <a:ext cx="1096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76212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122868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895480" y="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555480" cy="55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876920" y="609480"/>
            <a:ext cx="1096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555480" cy="555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809880" y="2590920"/>
            <a:ext cx="555840" cy="55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715000" y="1523880"/>
            <a:ext cx="1096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109692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1030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86600" y="2895480"/>
            <a:ext cx="1096920" cy="121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1030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96080" y="3581280"/>
            <a:ext cx="1096920" cy="1219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1030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1030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1030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19720" y="44197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1030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4800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762120" cy="63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19920" y="3276720"/>
            <a:ext cx="12286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5867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62120" cy="635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086600" y="3429000"/>
            <a:ext cx="12286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60958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762120" cy="63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915320" y="3886200"/>
            <a:ext cx="12286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51814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761760" cy="63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086600" y="4648320"/>
            <a:ext cx="12286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41911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4952880"/>
            <a:ext cx="1228680" cy="1125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7621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4648320"/>
            <a:ext cx="761760" cy="635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495680" y="5732640"/>
            <a:ext cx="12286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57600" y="51814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486400" y="5181480"/>
            <a:ext cx="762120" cy="635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505320" y="4876920"/>
            <a:ext cx="12286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4T16:35:56Z</dcterms:created>
  <dc:creator>Π.Δ.Μ.</dc:creator>
  <dc:description/>
  <dc:language>en-US</dc:language>
  <cp:lastModifiedBy>Π.Δ.Μ.</cp:lastModifiedBy>
  <dcterms:modified xsi:type="dcterms:W3CDTF">2002-08-24T18:09:48Z</dcterms:modified>
  <cp:revision>4</cp:revision>
  <dc:subject/>
  <dc:title>Χωρίς τίτλο διαφάνειας</dc:title>
</cp:coreProperties>
</file>