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1EA1-64D5-4039-A532-3748889F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BC7F-7463-4C9E-8286-98A0963D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BE9-4513-439E-88EE-229335642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1D7-D85A-4150-B3F1-001A1E8F3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FC0-0955-43BB-B37D-780FBE5A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1070-841E-4D04-B59D-28CC77C9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6962-6F0D-4F25-A358-EFAE56AFF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7F8A-CE4F-402D-8AAA-ACBB7E91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0D8-2A41-4BA1-9FDC-315E90AD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D5B-67C4-4E70-BA10-935254F3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9460-26BE-4CBF-8E6A-8FA06BC5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ECD7-B87A-4EB6-9C69-7604B0A4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4DCE-F7DF-472E-8B07-CFC5B7C795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lu.edu/colleges/AS/languages/classical/latin/tchmat/grammar/whprax/w2p-1d.html" TargetMode="External"/><Relationship Id="rId2" Type="http://schemas.openxmlformats.org/officeDocument/2006/relationships/hyperlink" Target="http://www.slu.edu/colleges/AS/languages/classical/latin/tchmat/grammar/whprax/w2p-1d.html" TargetMode="External"/><Relationship Id="rId3" Type="http://schemas.openxmlformats.org/officeDocument/2006/relationships/hyperlink" Target="http://www.slu.edu/colleges/AS/languages/classical/latin/tchmat/grammar/whprax/w2p-1d.html" TargetMode="External"/><Relationship Id="rId4" Type="http://schemas.openxmlformats.org/officeDocument/2006/relationships/hyperlink" Target="http://www.slu.edu/colleges/AS/languages/classical/latin/tchmat/grammar/whprax/w2p-1d.html" TargetMode="External"/><Relationship Id="rId5" Type="http://schemas.openxmlformats.org/officeDocument/2006/relationships/hyperlink" Target="http://www.slu.edu/colleges/AS/languages/classical/latin/tchmat/grammar/whprax/w2p-1d.html" TargetMode="External"/><Relationship Id="rId6" Type="http://schemas.openxmlformats.org/officeDocument/2006/relationships/hyperlink" Target="http://www.slu.edu/colleges/AS/languages/classical/latin/tchmat/grammar/whprax/w2p-1d.html" TargetMode="External"/><Relationship Id="rId7" Type="http://schemas.openxmlformats.org/officeDocument/2006/relationships/hyperlink" Target="http://www.slu.edu/colleges/AS/languages/classical/latin/tchmat/grammar/whprax/w2p-1d.html" TargetMode="External"/><Relationship Id="rId8" Type="http://schemas.openxmlformats.org/officeDocument/2006/relationships/hyperlink" Target="http://www.slu.edu/colleges/AS/languages/classical/latin/tchmat/grammar/whprax/w2p-1d.html" TargetMode="External"/><Relationship Id="rId9" Type="http://schemas.openxmlformats.org/officeDocument/2006/relationships/hyperlink" Target="http://www.slu.edu/colleges/AS/languages/classical/latin/tchmat/grammar/whprax/w2p-1d.html" TargetMode="External"/><Relationship Id="rId10" Type="http://schemas.openxmlformats.org/officeDocument/2006/relationships/hyperlink" Target="http://www.slu.edu/colleges/AS/languages/classical/latin/tchmat/grammar/whprax/w2p-1d.html" TargetMode="External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First%20Declension%20Endings.htm" TargetMode="External"/><Relationship Id="rId2" Type="http://schemas.openxmlformats.org/officeDocument/2006/relationships/hyperlink" Target="file:///First%20Declension%20Endings.htm" TargetMode="External"/><Relationship Id="rId3" Type="http://schemas.openxmlformats.org/officeDocument/2006/relationships/hyperlink" Target="file:///Second%20Declension%20Endings%20-us--er%20words.htm" TargetMode="External"/><Relationship Id="rId4" Type="http://schemas.openxmlformats.org/officeDocument/2006/relationships/hyperlink" Target="file:///Second%20Declension%20-us%20-%20-er%20words.htm" TargetMode="External"/><Relationship Id="rId5" Type="http://schemas.openxmlformats.org/officeDocument/2006/relationships/hyperlink" Target="file:///Second%20Declension%20Endings%20-um%20words.htm" TargetMode="External"/><Relationship Id="rId6" Type="http://schemas.openxmlformats.org/officeDocument/2006/relationships/hyperlink" Target="file:///Second%20Declension%20Endings%20-um%20words.htm" TargetMode="External"/><Relationship Id="rId7" Type="http://schemas.openxmlformats.org/officeDocument/2006/relationships/hyperlink" Target="file:///Third%20Declension%20Endings%20feminine%20-%20masculine%20words.htm" TargetMode="External"/><Relationship Id="rId8" Type="http://schemas.openxmlformats.org/officeDocument/2006/relationships/hyperlink" Target="file:///Third%20Declension%20Endings%20Neuter%20Words.htm" TargetMode="External"/><Relationship Id="rId9" Type="http://schemas.openxmlformats.org/officeDocument/2006/relationships/hyperlink" Target="file:///Third%20Declension%20words.htm" TargetMode="Externa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Wheelock-linked%20Latin%20Acquisition%20Pages.htm" TargetMode="External"/><Relationship Id="rId3" Type="http://schemas.openxmlformats.org/officeDocument/2006/relationships/hyperlink" Target="file:///Third%20Declension%20Endings%20feminine%20-%20masculine%20words.htm" TargetMode="External"/><Relationship Id="rId4" Type="http://schemas.openxmlformats.org/officeDocument/2006/relationships/hyperlink" Target="file:///Third%20Declension%20Endings%20feminine%20-%20masculine%20words.htm" TargetMode="External"/><Relationship Id="rId5" Type="http://schemas.openxmlformats.org/officeDocument/2006/relationships/hyperlink" Target="file:///Third%20Declension%20Endings%20feminine%20-%20masculine%20words.htm" TargetMode="External"/><Relationship Id="rId6" Type="http://schemas.openxmlformats.org/officeDocument/2006/relationships/hyperlink" Target="file:///Third%20Declension%20Endings%20feminine%20-%20masculine%20words.htm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First%20Declension%20Endings.htm" TargetMode="External"/><Relationship Id="rId2" Type="http://schemas.openxmlformats.org/officeDocument/2006/relationships/hyperlink" Target="file:///First%20Declension%20Endings.htm" TargetMode="External"/><Relationship Id="rId3" Type="http://schemas.openxmlformats.org/officeDocument/2006/relationships/hyperlink" Target="file:///Second%20Declension%20Endings%20-us--er%20words.htm" TargetMode="External"/><Relationship Id="rId4" Type="http://schemas.openxmlformats.org/officeDocument/2006/relationships/hyperlink" Target="file:///Second%20Declension%20-us%20-%20-er%20words.htm" TargetMode="External"/><Relationship Id="rId5" Type="http://schemas.openxmlformats.org/officeDocument/2006/relationships/hyperlink" Target="file:///Second%20Declension%20Endings%20-um%20words.htm" TargetMode="External"/><Relationship Id="rId6" Type="http://schemas.openxmlformats.org/officeDocument/2006/relationships/hyperlink" Target="file:///Second%20Declension%20Endings%20-um%20words.htm" TargetMode="External"/><Relationship Id="rId7" Type="http://schemas.openxmlformats.org/officeDocument/2006/relationships/hyperlink" Target="file:///Third%20Declension%20Endings%20feminine%20-%20masculine%20words.htm" TargetMode="External"/><Relationship Id="rId8" Type="http://schemas.openxmlformats.org/officeDocument/2006/relationships/hyperlink" Target="file:///Third%20Declension%20Endings%20Neuter%20Words.htm" TargetMode="External"/><Relationship Id="rId9" Type="http://schemas.openxmlformats.org/officeDocument/2006/relationships/hyperlink" Target="file:///Third%20Declension%20words.htm" TargetMode="External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u.edu/" TargetMode="External"/><Relationship Id="rId3" Type="http://schemas.openxmlformats.org/officeDocument/2006/relationships/hyperlink" Target="file:///Rudimenta%20in%20Motu.htm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Anecotes%20(Jacobs-D&#251;ring%20Reader).htm" TargetMode="External"/><Relationship Id="rId2" Type="http://schemas.openxmlformats.org/officeDocument/2006/relationships/hyperlink" Target="file:///Anecotes%20(Jacobs-D&#251;ring%20Reader).htm" TargetMode="External"/><Relationship Id="rId3" Type="http://schemas.openxmlformats.org/officeDocument/2006/relationships/hyperlink" Target="file:///Anecotes%20(Jacobs-D&#251;ring%20Reader).htm" TargetMode="External"/><Relationship Id="rId4" Type="http://schemas.openxmlformats.org/officeDocument/2006/relationships/hyperlink" Target="file:///Anecotes%20(Jacobs-D&#251;ring%20Reader).htm" TargetMode="External"/><Relationship Id="rId5" Type="http://schemas.openxmlformats.org/officeDocument/2006/relationships/hyperlink" Target="file:///Anecotes%20(Jacobs-D&#251;ring%20Reader).htm" TargetMode="External"/><Relationship Id="rId6" Type="http://schemas.openxmlformats.org/officeDocument/2006/relationships/hyperlink" Target="file:///Anecotes%20(Jacobs-D&#251;ring%20Reader).htm" TargetMode="External"/><Relationship Id="rId7" Type="http://schemas.openxmlformats.org/officeDocument/2006/relationships/hyperlink" Target="file:///Anecotes%20(Jacobs-D&#251;ring%20Reader).htm" TargetMode="External"/><Relationship Id="rId8" Type="http://schemas.openxmlformats.org/officeDocument/2006/relationships/hyperlink" Target="file:///Anecotes%20(Jacobs-D&#251;ring%20Reader).htm" TargetMode="External"/><Relationship Id="rId9" Type="http://schemas.openxmlformats.org/officeDocument/2006/relationships/hyperlink" Target="file:///Anecotes%20(Jacobs-D&#251;ring%20Reader).htm" TargetMode="External"/><Relationship Id="rId10" Type="http://schemas.openxmlformats.org/officeDocument/2006/relationships/hyperlink" Target="file:///Anecotes%20(Jacobs-D&#251;ring%20Reader).htm" TargetMode="External"/><Relationship Id="rId11" Type="http://schemas.openxmlformats.org/officeDocument/2006/relationships/hyperlink" Target="file:///Anecotes%20(Jacobs-D&#251;ring%20Reader).htm" TargetMode="External"/><Relationship Id="rId12" Type="http://schemas.openxmlformats.org/officeDocument/2006/relationships/hyperlink" Target="file:///Anecotes%20(Jacobs-D&#251;ring%20Reader).htm" TargetMode="External"/><Relationship Id="rId13" Type="http://schemas.openxmlformats.org/officeDocument/2006/relationships/hyperlink" Target="file:///Anecotes%20(Jacobs-D&#251;ring%20Reader).htm" TargetMode="External"/><Relationship Id="rId14" Type="http://schemas.openxmlformats.org/officeDocument/2006/relationships/hyperlink" Target="file:///Anecotes%20(Jacobs-D&#251;ring%20Reader).htm" TargetMode="External"/><Relationship Id="rId15" Type="http://schemas.openxmlformats.org/officeDocument/2006/relationships/hyperlink" Target="file:///Anecotes%20(Jacobs-D&#251;ring%20Reader).htm" TargetMode="External"/><Relationship Id="rId16" Type="http://schemas.openxmlformats.org/officeDocument/2006/relationships/hyperlink" Target="file:///Anecotes%20(Jacobs-D&#251;ring%20Reader).htm" TargetMode="External"/><Relationship Id="rId17" Type="http://schemas.openxmlformats.org/officeDocument/2006/relationships/hyperlink" Target="file:///Anecotes%20(Jacobs-D&#251;ring%20Reader).htm" TargetMode="External"/><Relationship Id="rId18" Type="http://schemas.openxmlformats.org/officeDocument/2006/relationships/hyperlink" Target="file:///Anecotes%20(Jacobs-D&#251;ring%20Reader).htm" TargetMode="External"/><Relationship Id="rId19" Type="http://schemas.openxmlformats.org/officeDocument/2006/relationships/hyperlink" Target="file:///Anecotes%20(Jacobs-D&#251;ring%20Reader).htm" TargetMode="External"/><Relationship Id="rId20" Type="http://schemas.openxmlformats.org/officeDocument/2006/relationships/hyperlink" Target="file:///Anecotes%20(Jacobs-D&#251;ring%20Reader).htm" TargetMode="External"/><Relationship Id="rId21" Type="http://schemas.openxmlformats.org/officeDocument/2006/relationships/hyperlink" Target="file:///Anecotes%20(Jacobs-D&#251;ring%20Reader).htm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lu.edu/colleges/AS/languages/classical/latin/tchmat/tchmat.html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slu.edu/colleges/AS/languages/classical/latin/tchmat/wh-prax.html" TargetMode="External"/><Relationship Id="rId4" Type="http://schemas.openxmlformats.org/officeDocument/2006/relationships/hyperlink" Target="file:///Wheelock-linked%20Latin%20Acquisition%20Pages.htm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slu.edu/colleges/AS/languages/classical/latin/tchmat/grammar/whprax/w2-d1.html" TargetMode="External"/><Relationship Id="rId2" Type="http://schemas.openxmlformats.org/officeDocument/2006/relationships/hyperlink" Target="http://www.slu.edu/colleges/AS/languages/classical/latin/tchmat/grammar/whprax/w2-d1.html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ff3300"/>
                </a:solidFill>
                <a:latin typeface="Times New Roman"/>
              </a:rPr>
              <a:t>ΣΕΝΑΡΙΟ ΔΙΔΑΣΚΑΛΙΑ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ΛΑΤΙΝΙΚΑ ΜΕ ΧΡΗΣΗ ΝΕΩΝ ΤΕΧΝΟΛΟΓΙΩ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3789360"/>
            <a:ext cx="684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00000" y="4076640"/>
            <a:ext cx="77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000000"/>
                </a:solidFill>
                <a:uFillTx/>
                <a:latin typeface="Times New Roman"/>
              </a:rPr>
              <a:t>ΕΝΑΛΛΑΚΤΙΚΟΙ ΤΙΤΛΟΙ ΤΗΣ ΠΑΡΟΥΣΙΑΣΗΣ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Ο ΦΤΩΧΟΣ ΣΥΓΓΕΝΗΣ ΠΡΟΒΑΛΛΕΙ ΑΞΙΩΣΕΙΣ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ΞΥΠΝΗΣΑΝΕ ΚΑΙ ΟΙ ΣΚΛΑΒΟΙ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85800" y="549360"/>
          <a:ext cx="8153280" cy="5329080"/>
        </p:xfrm>
        <a:graphic>
          <a:graphicData uri="http://schemas.openxmlformats.org/drawingml/2006/table">
            <a:tbl>
              <a:tblPr/>
              <a:tblGrid>
                <a:gridCol w="1967040"/>
                <a:gridCol w="6186240"/>
              </a:tblGrid>
              <a:tr h="55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1ο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</a:tr>
              <a:tr h="477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ανάληψη 1-2 κλίση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Περιεχόμενα των τεσσάρων στηλώ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Wingdings 2" charset="2"/>
                        <a:buChar char="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Η δεύτερη και Τρίτη στήλη παρουσιάζουν</a:t>
                      </a: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τις καταλήξεις της 1ης κλίσης, ενικού και πληθυντικού αντίστοιχα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Wingdings 2" charset="2"/>
                        <a:buChar char="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Η Τέταρτη στήλη είναι η στήλη των παραδειγμάτων τα οποία μάλιστα συνοδεύονται και από την αγγλική τους μετάφρα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Wingdings 2" charset="2"/>
                        <a:buChar char="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ιμένουμε να προσέξουν οι μαθητές  τα παραδείγματα και να κατανοήσουν τη χρήση παράλληλα με τη ζωντανή αγγλική μετάφρα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9BF-B79B-4931-A4AA-6FEA6E27080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11280" y="692280"/>
          <a:ext cx="8153280" cy="5002200"/>
        </p:xfrm>
        <a:graphic>
          <a:graphicData uri="http://schemas.openxmlformats.org/drawingml/2006/table">
            <a:tbl>
              <a:tblPr/>
              <a:tblGrid>
                <a:gridCol w="1967040"/>
                <a:gridCol w="6186240"/>
              </a:tblGrid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1ο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</a:tr>
              <a:tr h="44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ανάληψη 1-2 κλίση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Μεταβαίνουμε στη σελίδα με τις ασκήσεις πιέζοντας το δεσμ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60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60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l-G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Και ζητάμε από τους μαθητές ενδεικτικά να μεταφράσουν από τα λατινικά στα ελληνικά και από τα αγγλικά στα ελληνικά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99"/>
                        </a:spcBef>
                        <a:buClr>
                          <a:srgbClr val="000000"/>
                        </a:buClr>
                        <a:buFont typeface="Wingdings 2" charset="2"/>
                        <a:buChar char="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>
            <a:hlinkClick r:id="rId1"/>
          </p:cNvPr>
          <p:cNvSpPr/>
          <p:nvPr/>
        </p:nvSpPr>
        <p:spPr>
          <a:xfrm>
            <a:off x="3541680" y="2514600"/>
            <a:ext cx="354492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o</a:t>
            </a:r>
            <a:r>
              <a:rPr b="0" lang="el-G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el-G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to</a:t>
            </a:r>
            <a:r>
              <a:rPr b="0" lang="el-G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 </a:t>
            </a:r>
            <a:r>
              <a:rPr b="0" lang="el-G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the</a:t>
            </a:r>
            <a:r>
              <a:rPr b="0" lang="el-G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</a:t>
            </a:r>
            <a:r>
              <a:rPr b="0" lang="el-GR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Practice</a:t>
            </a:r>
            <a:r>
              <a:rPr b="0" lang="el-GR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-</a:t>
            </a:r>
            <a:r>
              <a:rPr b="0" lang="el-GR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9DC-52E4-46DD-BF01-8D8790074E1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685800" y="914400"/>
          <a:ext cx="7924680" cy="5791320"/>
        </p:xfrm>
        <a:graphic>
          <a:graphicData uri="http://schemas.openxmlformats.org/drawingml/2006/table">
            <a:tbl>
              <a:tblPr/>
              <a:tblGrid>
                <a:gridCol w="1911240"/>
                <a:gridCol w="60134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1ο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</a:tr>
              <a:tr h="517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ανάληψη 1-2 κλίση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αναλαμβάνουμε τα παραπάνω βήματα (1-5)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για τη δεύτερη κλίση ή καλύτερα από το πλαίσιο που υπάρχει σε δύο σημεία στην τρέχουσα σελίδα επιλέγουμε τα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ks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για να συνδεθούμε με τις σελίδες των καταλήξεων και των ασκήσεων των ονομάτων 2ης κλίση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2771640" y="5157720"/>
            <a:ext cx="541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  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2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 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2u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 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3m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3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  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4mf  4n  P   5 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563640" y="551664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780000" y="551664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4500360" y="5516640"/>
            <a:ext cx="75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5516640"/>
            <a:ext cx="3049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4DA1-7A90-4D96-8CE1-17B1AF8B164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611280" y="404640"/>
          <a:ext cx="8001000" cy="5761080"/>
        </p:xfrm>
        <a:graphic>
          <a:graphicData uri="http://schemas.openxmlformats.org/drawingml/2006/table">
            <a:tbl>
              <a:tblPr/>
              <a:tblGrid>
                <a:gridCol w="1987560"/>
                <a:gridCol w="60134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2ο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c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cc4"/>
                    </a:solidFill>
                  </a:tcPr>
                </a:tc>
              </a:tr>
              <a:tr h="51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Διδασκαλία εμπέδωση 3ης κλίση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Μοιράζουμε στους μαθητές τις 3 φόρμες και τα καθοδηγούμε να τις συμπληρώσουν μελετώντας και επισημαίνοντας διαδοχικά τα 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Την κατηγοριοποίηση των ουσ. 3ης κ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Την σημασία της γνώσης του γραμματικού γένους (φ.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Τις συνήθεις καταλήξεις και τις εξαιρέσεις των συμφωνολήκτων ουσιαστικών  (φ.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C80F-1AD1-41ED-969B-AEE027AF601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52480" y="-1079640"/>
            <a:ext cx="3108600" cy="274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΄ ΚΛΙΣΗ ΟΥΣΙΑΣΤΙΚΩ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38680" y="-1193760"/>
            <a:ext cx="102888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ΦΟΡΜΑ 1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40" y="-117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40" y="-965160"/>
            <a:ext cx="914400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76280"/>
            <a:ext cx="785016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9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  </a:t>
            </a:r>
            <a:r>
              <a:rPr b="1" i="1" lang="el-GR" sz="20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Κατηγοριοποίηση</a:t>
            </a:r>
            <a:r>
              <a:rPr b="1" i="1" lang="el-GR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α) </a:t>
            </a:r>
            <a:r>
              <a:rPr b="0" i="1" lang="el-G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Συμφωνόληκτα ή Περιττοσύλλαβ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-                                β) Φωνηεντόληκτα ή Ισοσύλλαβ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·</a:t>
            </a:r>
            <a:r>
              <a:rPr b="0" lang="el-GR" sz="9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    </a:t>
            </a:r>
            <a:r>
              <a:rPr b="0" i="1" lang="el-GR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[άλλες διακρίσεις : Καταληκτικά – Ακατάληκτα // Μονόθεμα – Διπλόθεμα</a:t>
            </a:r>
            <a:r>
              <a:rPr b="0" i="1" lang="el-GR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280" y="2349360"/>
            <a:ext cx="791208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i="1" lang="el-G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Καταλήξεις </a:t>
            </a:r>
            <a:r>
              <a:rPr b="0" i="1" lang="el-GR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[Εντοπίζουμε το θέμα αφαιρώντας από τη γενική ενικού την κατάληξη –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</a:t>
            </a:r>
            <a:r>
              <a:rPr b="0" i="1" lang="el-GR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71640" y="2781360"/>
            <a:ext cx="7238520" cy="2590920"/>
            <a:chOff x="971640" y="2781360"/>
            <a:chExt cx="7238520" cy="2590920"/>
          </a:xfrm>
        </p:grpSpPr>
        <p:grpSp>
          <p:nvGrpSpPr>
            <p:cNvPr id="82" name=""/>
            <p:cNvGrpSpPr/>
            <p:nvPr/>
          </p:nvGrpSpPr>
          <p:grpSpPr>
            <a:xfrm>
              <a:off x="978840" y="2783520"/>
              <a:ext cx="7223400" cy="2585880"/>
              <a:chOff x="978840" y="2783520"/>
              <a:chExt cx="7223400" cy="258588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978840" y="2783520"/>
                <a:ext cx="1040760" cy="324720"/>
                <a:chOff x="978840" y="2783520"/>
                <a:chExt cx="1040760" cy="3247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083960" y="2783520"/>
                  <a:ext cx="83016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978840" y="2783520"/>
                  <a:ext cx="1040760" cy="32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19960" y="2783520"/>
                <a:ext cx="1595160" cy="324720"/>
                <a:chOff x="2019960" y="2783520"/>
                <a:chExt cx="1595160" cy="3247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24360" y="2783520"/>
                  <a:ext cx="138528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l-GR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ΑΡΣ.-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19960" y="2783520"/>
                  <a:ext cx="1595160" cy="32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3615480" y="2783520"/>
                <a:ext cx="1734480" cy="324720"/>
                <a:chOff x="3615480" y="2783520"/>
                <a:chExt cx="1734480" cy="324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3720600" y="2783520"/>
                  <a:ext cx="152388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l-GR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ΘΗΛ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615480" y="2783520"/>
                  <a:ext cx="1734480" cy="32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5350680" y="2783520"/>
                <a:ext cx="1255680" cy="324720"/>
                <a:chOff x="5350680" y="2783520"/>
                <a:chExt cx="1255680" cy="324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455800" y="2783520"/>
                  <a:ext cx="104508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l-GR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350680" y="2783520"/>
                  <a:ext cx="1255680" cy="32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607080" y="2783520"/>
                <a:ext cx="1595160" cy="324720"/>
                <a:chOff x="6607080" y="2783520"/>
                <a:chExt cx="1595160" cy="324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711480" y="2783520"/>
                  <a:ext cx="1385640" cy="32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l-GR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ΟΥΔ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607080" y="2783520"/>
                  <a:ext cx="1595160" cy="32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978840" y="3108240"/>
                <a:ext cx="1040760" cy="356040"/>
                <a:chOff x="978840" y="3108240"/>
                <a:chExt cx="1040760" cy="3560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083960" y="3108240"/>
                  <a:ext cx="83016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Nom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978840" y="3108240"/>
                  <a:ext cx="10407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019960" y="3108240"/>
                <a:ext cx="1595160" cy="356040"/>
                <a:chOff x="2019960" y="3108240"/>
                <a:chExt cx="1595160" cy="3560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124360" y="3108240"/>
                  <a:ext cx="13852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s / 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019960" y="3108240"/>
                  <a:ext cx="15951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3615480" y="3108240"/>
                <a:ext cx="1734480" cy="356040"/>
                <a:chOff x="3615480" y="3108240"/>
                <a:chExt cx="1734480" cy="3560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3720600" y="3108240"/>
                  <a:ext cx="15238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3615480" y="3108240"/>
                  <a:ext cx="173448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350680" y="3108240"/>
                <a:ext cx="1255680" cy="356040"/>
                <a:chOff x="5350680" y="3108240"/>
                <a:chExt cx="1255680" cy="3560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455800" y="3108240"/>
                  <a:ext cx="10450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350680" y="3108240"/>
                  <a:ext cx="125568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6607080" y="3108240"/>
                <a:ext cx="1595160" cy="356040"/>
                <a:chOff x="6607080" y="3108240"/>
                <a:chExt cx="1595160" cy="3560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6711480" y="3108240"/>
                  <a:ext cx="138564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a/-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6607080" y="3108240"/>
                  <a:ext cx="15951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978840" y="3464280"/>
                <a:ext cx="1040760" cy="480240"/>
                <a:chOff x="978840" y="3464280"/>
                <a:chExt cx="1040760" cy="4802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083960" y="3464280"/>
                  <a:ext cx="830160" cy="48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Gen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78840" y="3464280"/>
                  <a:ext cx="1040760" cy="48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19960" y="3464280"/>
                <a:ext cx="1595160" cy="480240"/>
                <a:chOff x="2019960" y="3464280"/>
                <a:chExt cx="1595160" cy="480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24360" y="3464280"/>
                  <a:ext cx="1385280" cy="48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19960" y="3464280"/>
                  <a:ext cx="1595160" cy="48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615480" y="3464280"/>
                <a:ext cx="1734480" cy="480240"/>
                <a:chOff x="3615480" y="3464280"/>
                <a:chExt cx="1734480" cy="480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720600" y="3464280"/>
                  <a:ext cx="1523880" cy="48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um/-iu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615480" y="3464280"/>
                  <a:ext cx="1734480" cy="48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350680" y="3464280"/>
                <a:ext cx="1255680" cy="480240"/>
                <a:chOff x="5350680" y="3464280"/>
                <a:chExt cx="1255680" cy="480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455800" y="3464280"/>
                  <a:ext cx="1045080" cy="48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350680" y="3464280"/>
                  <a:ext cx="1255680" cy="48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6607080" y="3464280"/>
                <a:ext cx="1595160" cy="480240"/>
                <a:chOff x="6607080" y="3464280"/>
                <a:chExt cx="1595160" cy="480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6711480" y="3464280"/>
                  <a:ext cx="1385640" cy="480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um/iu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607080" y="3464280"/>
                  <a:ext cx="1595160" cy="480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978840" y="3944520"/>
                <a:ext cx="1040760" cy="356040"/>
                <a:chOff x="978840" y="3944520"/>
                <a:chExt cx="1040760" cy="3560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1083960" y="3944520"/>
                  <a:ext cx="83016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Dat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78840" y="3944520"/>
                  <a:ext cx="10407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019960" y="3944520"/>
                <a:ext cx="1595160" cy="356040"/>
                <a:chOff x="2019960" y="3944520"/>
                <a:chExt cx="1595160" cy="356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124360" y="3944520"/>
                  <a:ext cx="13852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019960" y="3944520"/>
                  <a:ext cx="15951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615480" y="3944520"/>
                <a:ext cx="1734480" cy="356040"/>
                <a:chOff x="3615480" y="3944520"/>
                <a:chExt cx="1734480" cy="356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720600" y="3944520"/>
                  <a:ext cx="15238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ib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615480" y="3944520"/>
                  <a:ext cx="173448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5350680" y="3944520"/>
                <a:ext cx="1255680" cy="356040"/>
                <a:chOff x="5350680" y="3944520"/>
                <a:chExt cx="1255680" cy="356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5455800" y="3944520"/>
                  <a:ext cx="10450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5350680" y="3944520"/>
                  <a:ext cx="125568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607080" y="3944520"/>
                <a:ext cx="1595160" cy="356040"/>
                <a:chOff x="6607080" y="3944520"/>
                <a:chExt cx="1595160" cy="35604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711480" y="3944520"/>
                  <a:ext cx="138564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ib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607080" y="3944520"/>
                  <a:ext cx="15951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978840" y="4300920"/>
                <a:ext cx="1040760" cy="356040"/>
                <a:chOff x="978840" y="4300920"/>
                <a:chExt cx="1040760" cy="3560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1083960" y="4300920"/>
                  <a:ext cx="83016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cc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978840" y="4300920"/>
                  <a:ext cx="10407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2019960" y="4300920"/>
                <a:ext cx="1595160" cy="356040"/>
                <a:chOff x="2019960" y="4300920"/>
                <a:chExt cx="1595160" cy="356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2124360" y="4300920"/>
                  <a:ext cx="13852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em/-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019960" y="4300920"/>
                  <a:ext cx="15951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615480" y="4300920"/>
                <a:ext cx="1734480" cy="356040"/>
                <a:chOff x="3615480" y="4300920"/>
                <a:chExt cx="1734480" cy="356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720600" y="4300920"/>
                  <a:ext cx="15238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 /-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615480" y="4300920"/>
                  <a:ext cx="173448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350680" y="4300920"/>
                <a:ext cx="1255680" cy="356040"/>
                <a:chOff x="5350680" y="4300920"/>
                <a:chExt cx="1255680" cy="35604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455800" y="4300920"/>
                  <a:ext cx="10450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350680" y="4300920"/>
                  <a:ext cx="125568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607080" y="4300920"/>
                <a:ext cx="1595160" cy="356040"/>
                <a:chOff x="6607080" y="4300920"/>
                <a:chExt cx="1595160" cy="35604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711480" y="4300920"/>
                  <a:ext cx="138564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a/-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607080" y="4300920"/>
                  <a:ext cx="15951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978840" y="4656960"/>
                <a:ext cx="1040760" cy="356400"/>
                <a:chOff x="978840" y="4656960"/>
                <a:chExt cx="1040760" cy="3564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083960" y="4656960"/>
                  <a:ext cx="83016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Voc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978840" y="4656960"/>
                  <a:ext cx="1040760" cy="3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2019960" y="4656960"/>
                <a:ext cx="1595160" cy="356400"/>
                <a:chOff x="2019960" y="4656960"/>
                <a:chExt cx="1595160" cy="35640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2124360" y="4656960"/>
                  <a:ext cx="138528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s / 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019960" y="4656960"/>
                  <a:ext cx="1595160" cy="3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3615480" y="4656960"/>
                <a:ext cx="1734480" cy="356400"/>
                <a:chOff x="3615480" y="4656960"/>
                <a:chExt cx="1734480" cy="35640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720600" y="4656960"/>
                  <a:ext cx="152388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615480" y="4656960"/>
                  <a:ext cx="1734480" cy="3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5350680" y="4656960"/>
                <a:ext cx="1255680" cy="356400"/>
                <a:chOff x="5350680" y="4656960"/>
                <a:chExt cx="1255680" cy="3564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455800" y="4656960"/>
                  <a:ext cx="104508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350680" y="4656960"/>
                  <a:ext cx="1255680" cy="3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6607080" y="4656960"/>
                <a:ext cx="1595160" cy="356400"/>
                <a:chOff x="6607080" y="4656960"/>
                <a:chExt cx="1595160" cy="35640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6711480" y="4656960"/>
                  <a:ext cx="1385640" cy="35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a/-i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6607080" y="4656960"/>
                  <a:ext cx="1595160" cy="356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978840" y="5013360"/>
                <a:ext cx="1040760" cy="356040"/>
                <a:chOff x="978840" y="5013360"/>
                <a:chExt cx="1040760" cy="35604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083960" y="5013360"/>
                  <a:ext cx="83016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1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bl</a:t>
                  </a:r>
                  <a:r>
                    <a:rPr b="0" i="1" lang="el-GR" sz="11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978840" y="5013360"/>
                  <a:ext cx="10407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2019960" y="5013360"/>
                <a:ext cx="1595160" cy="356040"/>
                <a:chOff x="2019960" y="5013360"/>
                <a:chExt cx="1595160" cy="35604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2124360" y="5013360"/>
                  <a:ext cx="13852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l-G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</a:t>
                  </a:r>
                  <a:r>
                    <a:rPr b="1" i="1" lang="el-G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/-</a:t>
                  </a: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2019960" y="5013360"/>
                  <a:ext cx="15951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3615480" y="5013360"/>
                <a:ext cx="1734480" cy="356040"/>
                <a:chOff x="3615480" y="5013360"/>
                <a:chExt cx="1734480" cy="3560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720600" y="5013360"/>
                  <a:ext cx="15238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l-G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b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615480" y="5013360"/>
                  <a:ext cx="173448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350680" y="5013360"/>
                <a:ext cx="1255680" cy="356040"/>
                <a:chOff x="5350680" y="5013360"/>
                <a:chExt cx="1255680" cy="3560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455800" y="5013360"/>
                  <a:ext cx="104508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l-G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e/-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350680" y="5013360"/>
                  <a:ext cx="125568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6607080" y="5013360"/>
                <a:ext cx="1595160" cy="356040"/>
                <a:chOff x="6607080" y="5013360"/>
                <a:chExt cx="1595160" cy="3560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6711480" y="5013360"/>
                  <a:ext cx="138564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l-G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ib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607080" y="5013360"/>
                  <a:ext cx="1595160" cy="35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8" name=""/>
            <p:cNvSpPr/>
            <p:nvPr/>
          </p:nvSpPr>
          <p:spPr>
            <a:xfrm>
              <a:off x="971640" y="2781360"/>
              <a:ext cx="7238520" cy="25909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609480" y="5410080"/>
            <a:ext cx="85345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i="1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i="1" lang="el-GR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Το γένος των 3κλιτων ουσιαστικών :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απαραίτητη η γνώση του)</a:t>
            </a:r>
            <a:r>
              <a:rPr b="0" i="1" lang="el-G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Βλέπε ειδικό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</a:rPr>
              <a:t> έντυπ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8D1-FC30-4899-B78D-DBE7CF10D2C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762120" y="380880"/>
            <a:ext cx="6248160" cy="274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΄ ΚΛΙΣΗ </a:t>
            </a:r>
            <a:r>
              <a:rPr b="1" i="1" lang="el-GR" sz="1600" spc="-1" strike="noStrike">
                <a:solidFill>
                  <a:srgbClr val="000000"/>
                </a:solidFill>
                <a:latin typeface="Times New Roman"/>
              </a:rPr>
              <a:t>– ΣΥΜΦΩΝΟΛΗΚΤΑ - ΠΕΡΙΤΤΟΣΥΛΛΑΒ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91520" y="380880"/>
            <a:ext cx="10285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ΦΟΡΜΑ 1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40" y="-117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" y="-965160"/>
            <a:ext cx="914400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40" y="-4303800"/>
            <a:ext cx="9144000" cy="11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πόδειγμα κλίσης: 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ρσενικών – Θηλυκών 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υδετέρων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80960" y="-3809880"/>
            <a:ext cx="3108600" cy="274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ΣΥΜΦΩΝΟΛΗΚΤΑ (- ΠΕΡΙΤΤΟΣΥΛΛΑΒΑ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" y="-43038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33520" y="762120"/>
            <a:ext cx="8152920" cy="1752480"/>
            <a:chOff x="533520" y="762120"/>
            <a:chExt cx="8152920" cy="1752480"/>
          </a:xfrm>
        </p:grpSpPr>
        <p:grpSp>
          <p:nvGrpSpPr>
            <p:cNvPr id="198" name=""/>
            <p:cNvGrpSpPr/>
            <p:nvPr/>
          </p:nvGrpSpPr>
          <p:grpSpPr>
            <a:xfrm>
              <a:off x="538200" y="763920"/>
              <a:ext cx="8142480" cy="1748520"/>
              <a:chOff x="538200" y="763920"/>
              <a:chExt cx="8142480" cy="174852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538200" y="763920"/>
                <a:ext cx="506160" cy="291240"/>
                <a:chOff x="538200" y="763920"/>
                <a:chExt cx="506160" cy="29124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10920" y="763920"/>
                  <a:ext cx="3607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No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38200" y="763920"/>
                  <a:ext cx="5061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1044720" y="763920"/>
                <a:ext cx="1198440" cy="291240"/>
                <a:chOff x="1044720" y="763920"/>
                <a:chExt cx="1198440" cy="29124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117440" y="763920"/>
                  <a:ext cx="105300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ex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044720" y="763920"/>
                  <a:ext cx="11984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243880" y="763920"/>
                <a:ext cx="1218960" cy="291240"/>
                <a:chOff x="2243880" y="763920"/>
                <a:chExt cx="1218960" cy="29124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2316240" y="76392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ic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243880" y="76392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3463200" y="763920"/>
                <a:ext cx="1389240" cy="291240"/>
                <a:chOff x="3463200" y="763920"/>
                <a:chExt cx="1389240" cy="2912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535560" y="76392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i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463200" y="76392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4852800" y="763920"/>
                <a:ext cx="1389240" cy="291240"/>
                <a:chOff x="4852800" y="763920"/>
                <a:chExt cx="1389240" cy="29124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4925160" y="76392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852800" y="76392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6242400" y="763920"/>
                <a:ext cx="1218960" cy="291240"/>
                <a:chOff x="6242400" y="763920"/>
                <a:chExt cx="1218960" cy="291240"/>
              </a:xfrm>
            </p:grpSpPr>
            <p:sp>
              <p:nvSpPr>
                <p:cNvPr id="215" name=""/>
                <p:cNvSpPr/>
                <p:nvPr/>
              </p:nvSpPr>
              <p:spPr>
                <a:xfrm>
                  <a:off x="6315120" y="763920"/>
                  <a:ext cx="10735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242400" y="76392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7461720" y="763920"/>
                <a:ext cx="1218960" cy="291240"/>
                <a:chOff x="7461720" y="763920"/>
                <a:chExt cx="1218960" cy="291240"/>
              </a:xfrm>
            </p:grpSpPr>
            <p:sp>
              <p:nvSpPr>
                <p:cNvPr id="218" name=""/>
                <p:cNvSpPr/>
                <p:nvPr/>
              </p:nvSpPr>
              <p:spPr>
                <a:xfrm>
                  <a:off x="7534080" y="76392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or-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461720" y="76392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538200" y="1055160"/>
                <a:ext cx="506160" cy="291240"/>
                <a:chOff x="538200" y="1055160"/>
                <a:chExt cx="506160" cy="291240"/>
              </a:xfrm>
            </p:grpSpPr>
            <p:sp>
              <p:nvSpPr>
                <p:cNvPr id="221" name=""/>
                <p:cNvSpPr/>
                <p:nvPr/>
              </p:nvSpPr>
              <p:spPr>
                <a:xfrm>
                  <a:off x="610920" y="1055160"/>
                  <a:ext cx="3607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Gn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8200" y="1055160"/>
                  <a:ext cx="5061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1044720" y="1055160"/>
                <a:ext cx="1198440" cy="291240"/>
                <a:chOff x="1044720" y="1055160"/>
                <a:chExt cx="1198440" cy="29124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1117440" y="1055160"/>
                  <a:ext cx="105300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ic-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1044720" y="1055160"/>
                  <a:ext cx="11984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2243880" y="1055160"/>
                <a:ext cx="1218960" cy="291240"/>
                <a:chOff x="2243880" y="1055160"/>
                <a:chExt cx="1218960" cy="29124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2316240" y="105516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ic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2243880" y="105516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3463200" y="1055160"/>
                <a:ext cx="1389240" cy="291240"/>
                <a:chOff x="3463200" y="1055160"/>
                <a:chExt cx="1389240" cy="291240"/>
              </a:xfrm>
            </p:grpSpPr>
            <p:sp>
              <p:nvSpPr>
                <p:cNvPr id="230" name=""/>
                <p:cNvSpPr/>
                <p:nvPr/>
              </p:nvSpPr>
              <p:spPr>
                <a:xfrm>
                  <a:off x="3535560" y="105516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ion-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463200" y="105516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852800" y="1055160"/>
                <a:ext cx="1389240" cy="291240"/>
                <a:chOff x="4852800" y="1055160"/>
                <a:chExt cx="1389240" cy="29124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4925160" y="105516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852800" y="105516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6242400" y="1055160"/>
                <a:ext cx="1218960" cy="291240"/>
                <a:chOff x="6242400" y="1055160"/>
                <a:chExt cx="1218960" cy="29124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315120" y="1055160"/>
                  <a:ext cx="10735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or-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42400" y="105516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461720" y="1055160"/>
                <a:ext cx="1218960" cy="291240"/>
                <a:chOff x="7461720" y="1055160"/>
                <a:chExt cx="1218960" cy="29124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534080" y="105516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or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461720" y="105516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538200" y="1346760"/>
                <a:ext cx="506160" cy="291240"/>
                <a:chOff x="538200" y="1346760"/>
                <a:chExt cx="506160" cy="29124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610920" y="1346760"/>
                  <a:ext cx="3607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Dat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38200" y="1346760"/>
                  <a:ext cx="5061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044720" y="1346760"/>
                <a:ext cx="1198440" cy="291240"/>
                <a:chOff x="1044720" y="1346760"/>
                <a:chExt cx="1198440" cy="29124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1117440" y="1346760"/>
                  <a:ext cx="105300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ic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044720" y="1346760"/>
                  <a:ext cx="11984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2243880" y="1346760"/>
                <a:ext cx="1218960" cy="291240"/>
                <a:chOff x="2243880" y="1346760"/>
                <a:chExt cx="1218960" cy="29124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2316240" y="134676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ic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2243880" y="134676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3463200" y="1346760"/>
                <a:ext cx="1389240" cy="291240"/>
                <a:chOff x="3463200" y="1346760"/>
                <a:chExt cx="1389240" cy="29124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3535560" y="134676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ion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3463200" y="134676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4852800" y="1346760"/>
                <a:ext cx="1389240" cy="291240"/>
                <a:chOff x="4852800" y="1346760"/>
                <a:chExt cx="1389240" cy="291240"/>
              </a:xfrm>
            </p:grpSpPr>
            <p:sp>
              <p:nvSpPr>
                <p:cNvPr id="254" name=""/>
                <p:cNvSpPr/>
                <p:nvPr/>
              </p:nvSpPr>
              <p:spPr>
                <a:xfrm>
                  <a:off x="4925160" y="134676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4852800" y="134676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242400" y="1346760"/>
                <a:ext cx="1218960" cy="291240"/>
                <a:chOff x="6242400" y="1346760"/>
                <a:chExt cx="1218960" cy="29124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315120" y="1346760"/>
                  <a:ext cx="10735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or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242400" y="134676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7461720" y="1346760"/>
                <a:ext cx="1218960" cy="291240"/>
                <a:chOff x="7461720" y="1346760"/>
                <a:chExt cx="1218960" cy="2912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7534080" y="134676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or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7461720" y="134676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538200" y="1638000"/>
                <a:ext cx="506160" cy="291240"/>
                <a:chOff x="538200" y="1638000"/>
                <a:chExt cx="506160" cy="2912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10920" y="1638000"/>
                  <a:ext cx="3607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c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538200" y="1638000"/>
                  <a:ext cx="5061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1044720" y="1638000"/>
                <a:ext cx="1198440" cy="291240"/>
                <a:chOff x="1044720" y="1638000"/>
                <a:chExt cx="1198440" cy="29124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1117440" y="1638000"/>
                  <a:ext cx="105300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ic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1044720" y="1638000"/>
                  <a:ext cx="11984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2243880" y="1638000"/>
                <a:ext cx="1218960" cy="291240"/>
                <a:chOff x="2243880" y="1638000"/>
                <a:chExt cx="1218960" cy="29124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2316240" y="163800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ic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2243880" y="163800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463200" y="1638000"/>
                <a:ext cx="1389240" cy="291240"/>
                <a:chOff x="3463200" y="1638000"/>
                <a:chExt cx="1389240" cy="29124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535560" y="163800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463200" y="163800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4852800" y="1638000"/>
                <a:ext cx="1389240" cy="291240"/>
                <a:chOff x="4852800" y="1638000"/>
                <a:chExt cx="1389240" cy="2912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4925160" y="163800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4852800" y="163800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6242400" y="1638000"/>
                <a:ext cx="1218960" cy="291240"/>
                <a:chOff x="6242400" y="1638000"/>
                <a:chExt cx="1218960" cy="29124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315120" y="1638000"/>
                  <a:ext cx="10735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242400" y="163800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7461720" y="1638000"/>
                <a:ext cx="1218960" cy="291240"/>
                <a:chOff x="7461720" y="1638000"/>
                <a:chExt cx="1218960" cy="2912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7534080" y="163800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461720" y="163800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38200" y="1929600"/>
                <a:ext cx="506160" cy="291240"/>
                <a:chOff x="538200" y="1929600"/>
                <a:chExt cx="506160" cy="29124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610920" y="1929600"/>
                  <a:ext cx="3607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Vo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38200" y="1929600"/>
                  <a:ext cx="5061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044720" y="1929600"/>
                <a:ext cx="1198440" cy="291240"/>
                <a:chOff x="1044720" y="1929600"/>
                <a:chExt cx="1198440" cy="29124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117440" y="1929600"/>
                  <a:ext cx="105300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044720" y="1929600"/>
                  <a:ext cx="11984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2243880" y="1929600"/>
                <a:ext cx="1218960" cy="291240"/>
                <a:chOff x="2243880" y="1929600"/>
                <a:chExt cx="1218960" cy="29124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2316240" y="192960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ic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2243880" y="192960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463200" y="1929600"/>
                <a:ext cx="1389240" cy="291240"/>
                <a:chOff x="3463200" y="1929600"/>
                <a:chExt cx="1389240" cy="2912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535560" y="192960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463200" y="192960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852800" y="1929600"/>
                <a:ext cx="1389240" cy="291240"/>
                <a:chOff x="4852800" y="1929600"/>
                <a:chExt cx="1389240" cy="29124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925160" y="192960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852800" y="192960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6242400" y="1929600"/>
                <a:ext cx="1218960" cy="291240"/>
                <a:chOff x="6242400" y="1929600"/>
                <a:chExt cx="1218960" cy="29124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6315120" y="1929600"/>
                  <a:ext cx="10735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42400" y="192960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7461720" y="1929600"/>
                <a:ext cx="1218960" cy="291240"/>
                <a:chOff x="7461720" y="1929600"/>
                <a:chExt cx="1218960" cy="29124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7534080" y="192960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7461720" y="192960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38200" y="2221200"/>
                <a:ext cx="506160" cy="291240"/>
                <a:chOff x="538200" y="2221200"/>
                <a:chExt cx="506160" cy="29124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610920" y="2221200"/>
                  <a:ext cx="3607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bl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38200" y="2221200"/>
                  <a:ext cx="5061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1044720" y="2221200"/>
                <a:ext cx="1198440" cy="291240"/>
                <a:chOff x="1044720" y="2221200"/>
                <a:chExt cx="1198440" cy="29124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117440" y="2221200"/>
                  <a:ext cx="105300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ic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044720" y="2221200"/>
                  <a:ext cx="11984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2243880" y="2221200"/>
                <a:ext cx="1218960" cy="291240"/>
                <a:chOff x="2243880" y="2221200"/>
                <a:chExt cx="1218960" cy="2912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2316240" y="222120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udic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3880" y="222120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463200" y="2221200"/>
                <a:ext cx="1389240" cy="291240"/>
                <a:chOff x="3463200" y="2221200"/>
                <a:chExt cx="1389240" cy="29124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535560" y="222120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463200" y="222120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4852800" y="2221200"/>
                <a:ext cx="1389240" cy="291240"/>
                <a:chOff x="4852800" y="2221200"/>
                <a:chExt cx="1389240" cy="29124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4925160" y="2221200"/>
                  <a:ext cx="124416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4852800" y="2221200"/>
                  <a:ext cx="138924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6242400" y="2221200"/>
                <a:ext cx="1218960" cy="291240"/>
                <a:chOff x="6242400" y="2221200"/>
                <a:chExt cx="1218960" cy="29124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315120" y="2221200"/>
                  <a:ext cx="107352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242400" y="222120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461720" y="2221200"/>
                <a:ext cx="1218960" cy="291240"/>
                <a:chOff x="7461720" y="2221200"/>
                <a:chExt cx="1218960" cy="29124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7534080" y="2221200"/>
                  <a:ext cx="1073880" cy="291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rp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461720" y="2221200"/>
                  <a:ext cx="1218960" cy="291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5" name=""/>
            <p:cNvSpPr/>
            <p:nvPr/>
          </p:nvSpPr>
          <p:spPr>
            <a:xfrm>
              <a:off x="533520" y="762120"/>
              <a:ext cx="8152920" cy="1752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39640" y="2276640"/>
            <a:ext cx="815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</a:t>
            </a:r>
            <a:r>
              <a:rPr b="1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ουδέτερα έχουν τρεις όμοιες πτώσεις στον ενικό και στον πληθυντικ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l-GR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ν το θέμα των ουσιαστικών (συνήθως μονοσύλλαβων) λήγει σε δύο σύμφωνα στη γενική πληθυντικού σχηματίζεται σε </a:t>
            </a:r>
            <a:r>
              <a:rPr b="1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468360" y="3357720"/>
            <a:ext cx="8305560" cy="3047760"/>
            <a:chOff x="468360" y="3357720"/>
            <a:chExt cx="8305560" cy="3047760"/>
          </a:xfrm>
        </p:grpSpPr>
        <p:grpSp>
          <p:nvGrpSpPr>
            <p:cNvPr id="328" name=""/>
            <p:cNvGrpSpPr/>
            <p:nvPr/>
          </p:nvGrpSpPr>
          <p:grpSpPr>
            <a:xfrm>
              <a:off x="473400" y="3359160"/>
              <a:ext cx="8294760" cy="3044520"/>
              <a:chOff x="473400" y="3359160"/>
              <a:chExt cx="8294760" cy="3044520"/>
            </a:xfrm>
          </p:grpSpPr>
          <p:grpSp>
            <p:nvGrpSpPr>
              <p:cNvPr id="329" name=""/>
              <p:cNvGrpSpPr/>
              <p:nvPr/>
            </p:nvGrpSpPr>
            <p:grpSpPr>
              <a:xfrm>
                <a:off x="473400" y="3359160"/>
                <a:ext cx="515520" cy="235440"/>
                <a:chOff x="473400" y="3359160"/>
                <a:chExt cx="515520" cy="23544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47200" y="3359160"/>
                  <a:ext cx="3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o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73400" y="3359160"/>
                  <a:ext cx="51552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989280" y="3359160"/>
                <a:ext cx="1241640" cy="235440"/>
                <a:chOff x="989280" y="3359160"/>
                <a:chExt cx="1241640" cy="23544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1063080" y="3359160"/>
                  <a:ext cx="109368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989280" y="335916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2231640" y="3359160"/>
                <a:ext cx="1220760" cy="235440"/>
                <a:chOff x="2231640" y="3359160"/>
                <a:chExt cx="1220760" cy="2354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2305080" y="3359160"/>
                  <a:ext cx="10731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n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2231640" y="3359160"/>
                  <a:ext cx="12207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"/>
              <p:cNvGrpSpPr/>
              <p:nvPr/>
            </p:nvGrpSpPr>
            <p:grpSpPr>
              <a:xfrm>
                <a:off x="3452760" y="3359160"/>
                <a:ext cx="1415160" cy="235440"/>
                <a:chOff x="3452760" y="3359160"/>
                <a:chExt cx="1415160" cy="2354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3526200" y="3359160"/>
                  <a:ext cx="12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en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452760" y="3359160"/>
                  <a:ext cx="14151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4868640" y="3359160"/>
                <a:ext cx="1415160" cy="235440"/>
                <a:chOff x="4868640" y="3359160"/>
                <a:chExt cx="1415160" cy="23544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4942080" y="3359160"/>
                  <a:ext cx="12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n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4868640" y="3359160"/>
                  <a:ext cx="14151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" name=""/>
              <p:cNvGrpSpPr/>
              <p:nvPr/>
            </p:nvGrpSpPr>
            <p:grpSpPr>
              <a:xfrm>
                <a:off x="6284520" y="3359160"/>
                <a:ext cx="1241640" cy="235440"/>
                <a:chOff x="6284520" y="3359160"/>
                <a:chExt cx="1241640" cy="235440"/>
              </a:xfrm>
            </p:grpSpPr>
            <p:sp>
              <p:nvSpPr>
                <p:cNvPr id="345" name=""/>
                <p:cNvSpPr/>
                <p:nvPr/>
              </p:nvSpPr>
              <p:spPr>
                <a:xfrm>
                  <a:off x="6358320" y="3359160"/>
                  <a:ext cx="109368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pr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284520" y="335916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7" name=""/>
              <p:cNvGrpSpPr/>
              <p:nvPr/>
            </p:nvGrpSpPr>
            <p:grpSpPr>
              <a:xfrm>
                <a:off x="7526520" y="3359160"/>
                <a:ext cx="1241640" cy="235440"/>
                <a:chOff x="7526520" y="3359160"/>
                <a:chExt cx="1241640" cy="2354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599960" y="3359160"/>
                  <a:ext cx="109404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i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526520" y="335916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0" name=""/>
              <p:cNvGrpSpPr/>
              <p:nvPr/>
            </p:nvGrpSpPr>
            <p:grpSpPr>
              <a:xfrm>
                <a:off x="473400" y="3594600"/>
                <a:ext cx="515520" cy="235800"/>
                <a:chOff x="473400" y="3594600"/>
                <a:chExt cx="515520" cy="23580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547200" y="3594600"/>
                  <a:ext cx="3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Gen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73400" y="3594600"/>
                  <a:ext cx="51552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989280" y="3594600"/>
                <a:ext cx="1241640" cy="235800"/>
                <a:chOff x="989280" y="3594600"/>
                <a:chExt cx="1241640" cy="23580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1063080" y="359460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at-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989280" y="359460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231640" y="3594600"/>
                <a:ext cx="1220760" cy="235800"/>
                <a:chOff x="2231640" y="3594600"/>
                <a:chExt cx="1220760" cy="23580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305080" y="3594600"/>
                  <a:ext cx="10731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231640" y="3594600"/>
                  <a:ext cx="12207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452760" y="3594600"/>
                <a:ext cx="1415160" cy="235800"/>
                <a:chOff x="3452760" y="3594600"/>
                <a:chExt cx="1415160" cy="2358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3526200" y="359460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452760" y="359460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2" name=""/>
              <p:cNvGrpSpPr/>
              <p:nvPr/>
            </p:nvGrpSpPr>
            <p:grpSpPr>
              <a:xfrm>
                <a:off x="4868640" y="3594600"/>
                <a:ext cx="1415160" cy="235800"/>
                <a:chOff x="4868640" y="3594600"/>
                <a:chExt cx="1415160" cy="23580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4942080" y="359460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4868640" y="359460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6284520" y="3594600"/>
                <a:ext cx="1241640" cy="235800"/>
                <a:chOff x="6284520" y="3594600"/>
                <a:chExt cx="1241640" cy="23580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6358320" y="359460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6284520" y="359460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8" name=""/>
              <p:cNvGrpSpPr/>
              <p:nvPr/>
            </p:nvGrpSpPr>
            <p:grpSpPr>
              <a:xfrm>
                <a:off x="7526520" y="3594600"/>
                <a:ext cx="1241640" cy="235800"/>
                <a:chOff x="7526520" y="3594600"/>
                <a:chExt cx="1241640" cy="23580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7599960" y="3594600"/>
                  <a:ext cx="109404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7526520" y="359460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473400" y="3830760"/>
                <a:ext cx="515520" cy="235440"/>
                <a:chOff x="473400" y="3830760"/>
                <a:chExt cx="515520" cy="2354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547200" y="3830760"/>
                  <a:ext cx="3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Dat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473400" y="3830760"/>
                  <a:ext cx="51552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989280" y="3830760"/>
                <a:ext cx="1241640" cy="235440"/>
                <a:chOff x="989280" y="3830760"/>
                <a:chExt cx="1241640" cy="2354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1063080" y="3830760"/>
                  <a:ext cx="109368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989280" y="383076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2231640" y="3830760"/>
                <a:ext cx="1220760" cy="235440"/>
                <a:chOff x="2231640" y="3830760"/>
                <a:chExt cx="1220760" cy="2354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2305080" y="3830760"/>
                  <a:ext cx="10731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231640" y="3830760"/>
                  <a:ext cx="12207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3452760" y="3830760"/>
                <a:ext cx="1415160" cy="235440"/>
                <a:chOff x="3452760" y="3830760"/>
                <a:chExt cx="1415160" cy="2354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3526200" y="3830760"/>
                  <a:ext cx="12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3452760" y="3830760"/>
                  <a:ext cx="14151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4868640" y="3830760"/>
                <a:ext cx="1415160" cy="235440"/>
                <a:chOff x="4868640" y="3830760"/>
                <a:chExt cx="1415160" cy="23544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4942080" y="3830760"/>
                  <a:ext cx="12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868640" y="3830760"/>
                  <a:ext cx="14151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6284520" y="3830760"/>
                <a:ext cx="1241640" cy="235440"/>
                <a:chOff x="6284520" y="3830760"/>
                <a:chExt cx="1241640" cy="23544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358320" y="3830760"/>
                  <a:ext cx="109368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284520" y="383076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7526520" y="3830760"/>
                <a:ext cx="1241640" cy="235440"/>
                <a:chOff x="7526520" y="3830760"/>
                <a:chExt cx="1241640" cy="2354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7599960" y="3830760"/>
                  <a:ext cx="109404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526520" y="383076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73400" y="4066200"/>
                <a:ext cx="515520" cy="235800"/>
                <a:chOff x="473400" y="4066200"/>
                <a:chExt cx="515520" cy="2358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547200" y="4066200"/>
                  <a:ext cx="3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c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73400" y="4066200"/>
                  <a:ext cx="51552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989280" y="4066200"/>
                <a:ext cx="1241640" cy="235800"/>
                <a:chOff x="989280" y="4066200"/>
                <a:chExt cx="1241640" cy="2358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1063080" y="406620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989280" y="406620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2231640" y="4066200"/>
                <a:ext cx="1220760" cy="235800"/>
                <a:chOff x="2231640" y="4066200"/>
                <a:chExt cx="1220760" cy="2358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2305080" y="4066200"/>
                  <a:ext cx="10731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2231640" y="4066200"/>
                  <a:ext cx="12207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3452760" y="4066200"/>
                <a:ext cx="1415160" cy="235800"/>
                <a:chOff x="3452760" y="4066200"/>
                <a:chExt cx="1415160" cy="2358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3526200" y="406620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3452760" y="406620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4868640" y="4066200"/>
                <a:ext cx="1415160" cy="235800"/>
                <a:chOff x="4868640" y="4066200"/>
                <a:chExt cx="1415160" cy="23580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4942080" y="406620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4868640" y="406620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6284520" y="4066200"/>
                <a:ext cx="1241640" cy="235800"/>
                <a:chOff x="6284520" y="4066200"/>
                <a:chExt cx="1241640" cy="2358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6358320" y="406620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6284520" y="406620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7526520" y="4066200"/>
                <a:ext cx="1241640" cy="235800"/>
                <a:chOff x="7526520" y="4066200"/>
                <a:chExt cx="1241640" cy="23580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7599960" y="4066200"/>
                  <a:ext cx="109404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7526520" y="406620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473400" y="4302360"/>
                <a:ext cx="515520" cy="235800"/>
                <a:chOff x="473400" y="4302360"/>
                <a:chExt cx="515520" cy="2358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547200" y="4302360"/>
                  <a:ext cx="3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Vo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73400" y="4302360"/>
                  <a:ext cx="51552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989280" y="4302360"/>
                <a:ext cx="1241640" cy="235800"/>
                <a:chOff x="989280" y="4302360"/>
                <a:chExt cx="1241640" cy="23580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1063080" y="430236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989280" y="430236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2231640" y="4302360"/>
                <a:ext cx="1220760" cy="235800"/>
                <a:chOff x="2231640" y="4302360"/>
                <a:chExt cx="1220760" cy="23580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2305080" y="4302360"/>
                  <a:ext cx="10731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2231640" y="4302360"/>
                  <a:ext cx="12207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3452760" y="4302360"/>
                <a:ext cx="1415160" cy="235800"/>
                <a:chOff x="3452760" y="4302360"/>
                <a:chExt cx="1415160" cy="23580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3526200" y="430236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3452760" y="430236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4868640" y="4302360"/>
                <a:ext cx="1415160" cy="235800"/>
                <a:chOff x="4868640" y="4302360"/>
                <a:chExt cx="1415160" cy="23580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4942080" y="430236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868640" y="430236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6284520" y="4302360"/>
                <a:ext cx="1241640" cy="235800"/>
                <a:chOff x="6284520" y="4302360"/>
                <a:chExt cx="1241640" cy="23580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6358320" y="430236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6284520" y="430236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1" name=""/>
              <p:cNvGrpSpPr/>
              <p:nvPr/>
            </p:nvGrpSpPr>
            <p:grpSpPr>
              <a:xfrm>
                <a:off x="7526520" y="4302360"/>
                <a:ext cx="1241640" cy="235800"/>
                <a:chOff x="7526520" y="4302360"/>
                <a:chExt cx="1241640" cy="23580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7599960" y="4302360"/>
                  <a:ext cx="109404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526520" y="430236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4" name=""/>
              <p:cNvGrpSpPr/>
              <p:nvPr/>
            </p:nvGrpSpPr>
            <p:grpSpPr>
              <a:xfrm>
                <a:off x="473400" y="4538160"/>
                <a:ext cx="515520" cy="235440"/>
                <a:chOff x="473400" y="4538160"/>
                <a:chExt cx="515520" cy="235440"/>
              </a:xfrm>
            </p:grpSpPr>
            <p:sp>
              <p:nvSpPr>
                <p:cNvPr id="435" name=""/>
                <p:cNvSpPr/>
                <p:nvPr/>
              </p:nvSpPr>
              <p:spPr>
                <a:xfrm>
                  <a:off x="547200" y="4538160"/>
                  <a:ext cx="3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bl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73400" y="4538160"/>
                  <a:ext cx="51552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7" name=""/>
              <p:cNvGrpSpPr/>
              <p:nvPr/>
            </p:nvGrpSpPr>
            <p:grpSpPr>
              <a:xfrm>
                <a:off x="989280" y="4538160"/>
                <a:ext cx="1241640" cy="235440"/>
                <a:chOff x="989280" y="4538160"/>
                <a:chExt cx="1241640" cy="23544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1063080" y="4538160"/>
                  <a:ext cx="109368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989280" y="453816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2231640" y="4538160"/>
                <a:ext cx="1220760" cy="235440"/>
                <a:chOff x="2231640" y="4538160"/>
                <a:chExt cx="1220760" cy="23544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2305080" y="4538160"/>
                  <a:ext cx="10731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2231640" y="4538160"/>
                  <a:ext cx="12207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452760" y="4538160"/>
                <a:ext cx="1415160" cy="235440"/>
                <a:chOff x="3452760" y="4538160"/>
                <a:chExt cx="1415160" cy="23544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526200" y="4538160"/>
                  <a:ext cx="12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452760" y="4538160"/>
                  <a:ext cx="14151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4868640" y="4538160"/>
                <a:ext cx="1415160" cy="235440"/>
                <a:chOff x="4868640" y="4538160"/>
                <a:chExt cx="1415160" cy="2354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4942080" y="4538160"/>
                  <a:ext cx="12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4868640" y="4538160"/>
                  <a:ext cx="14151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284520" y="4538160"/>
                <a:ext cx="1241640" cy="235440"/>
                <a:chOff x="6284520" y="4538160"/>
                <a:chExt cx="1241640" cy="23544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6358320" y="4538160"/>
                  <a:ext cx="109368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284520" y="453816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7526520" y="4538160"/>
                <a:ext cx="1241640" cy="235440"/>
                <a:chOff x="7526520" y="4538160"/>
                <a:chExt cx="1241640" cy="235440"/>
              </a:xfrm>
            </p:grpSpPr>
            <p:sp>
              <p:nvSpPr>
                <p:cNvPr id="453" name=""/>
                <p:cNvSpPr/>
                <p:nvPr/>
              </p:nvSpPr>
              <p:spPr>
                <a:xfrm>
                  <a:off x="7599960" y="4538160"/>
                  <a:ext cx="109404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7526520" y="453816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5" name=""/>
              <p:cNvGrpSpPr/>
              <p:nvPr/>
            </p:nvGrpSpPr>
            <p:grpSpPr>
              <a:xfrm>
                <a:off x="473400" y="4773960"/>
                <a:ext cx="515520" cy="214920"/>
                <a:chOff x="473400" y="4773960"/>
                <a:chExt cx="515520" cy="21492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473400" y="4773960"/>
                  <a:ext cx="515520" cy="2149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7" name=""/>
                <p:cNvGrpSpPr/>
                <p:nvPr/>
              </p:nvGrpSpPr>
              <p:grpSpPr>
                <a:xfrm>
                  <a:off x="473400" y="4773960"/>
                  <a:ext cx="515160" cy="214920"/>
                  <a:chOff x="473400" y="4773960"/>
                  <a:chExt cx="515160" cy="214920"/>
                </a:xfrm>
              </p:grpSpPr>
              <p:sp>
                <p:nvSpPr>
                  <p:cNvPr id="458" name=""/>
                  <p:cNvSpPr/>
                  <p:nvPr/>
                </p:nvSpPr>
                <p:spPr>
                  <a:xfrm>
                    <a:off x="547200" y="4773960"/>
                    <a:ext cx="367200" cy="21492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"/>
                  <p:cNvSpPr/>
                  <p:nvPr/>
                </p:nvSpPr>
                <p:spPr>
                  <a:xfrm>
                    <a:off x="473400" y="4773960"/>
                    <a:ext cx="515160" cy="214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0" name=""/>
              <p:cNvGrpSpPr/>
              <p:nvPr/>
            </p:nvGrpSpPr>
            <p:grpSpPr>
              <a:xfrm>
                <a:off x="989280" y="4773960"/>
                <a:ext cx="1241640" cy="214920"/>
                <a:chOff x="989280" y="4773960"/>
                <a:chExt cx="1241640" cy="2149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989280" y="4773960"/>
                  <a:ext cx="1241640" cy="2149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2" name=""/>
                <p:cNvGrpSpPr/>
                <p:nvPr/>
              </p:nvGrpSpPr>
              <p:grpSpPr>
                <a:xfrm>
                  <a:off x="989280" y="4773960"/>
                  <a:ext cx="1241280" cy="214920"/>
                  <a:chOff x="989280" y="4773960"/>
                  <a:chExt cx="1241280" cy="214920"/>
                </a:xfrm>
              </p:grpSpPr>
              <p:sp>
                <p:nvSpPr>
                  <p:cNvPr id="463" name=""/>
                  <p:cNvSpPr/>
                  <p:nvPr/>
                </p:nvSpPr>
                <p:spPr>
                  <a:xfrm>
                    <a:off x="1063080" y="4773960"/>
                    <a:ext cx="1093320" cy="21492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/>
                  <p:nvPr/>
                </p:nvSpPr>
                <p:spPr>
                  <a:xfrm>
                    <a:off x="989280" y="4773960"/>
                    <a:ext cx="1241280" cy="214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5" name=""/>
              <p:cNvGrpSpPr/>
              <p:nvPr/>
            </p:nvGrpSpPr>
            <p:grpSpPr>
              <a:xfrm>
                <a:off x="2231640" y="4773960"/>
                <a:ext cx="1220760" cy="214920"/>
                <a:chOff x="2231640" y="4773960"/>
                <a:chExt cx="1220760" cy="2149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2231640" y="4773960"/>
                  <a:ext cx="1220760" cy="2149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7" name=""/>
                <p:cNvGrpSpPr/>
                <p:nvPr/>
              </p:nvGrpSpPr>
              <p:grpSpPr>
                <a:xfrm>
                  <a:off x="2231640" y="4773960"/>
                  <a:ext cx="1220400" cy="214920"/>
                  <a:chOff x="2231640" y="4773960"/>
                  <a:chExt cx="1220400" cy="214920"/>
                </a:xfrm>
              </p:grpSpPr>
              <p:sp>
                <p:nvSpPr>
                  <p:cNvPr id="468" name=""/>
                  <p:cNvSpPr/>
                  <p:nvPr/>
                </p:nvSpPr>
                <p:spPr>
                  <a:xfrm>
                    <a:off x="2305080" y="4773960"/>
                    <a:ext cx="1072800" cy="21492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" name=""/>
                  <p:cNvSpPr/>
                  <p:nvPr/>
                </p:nvSpPr>
                <p:spPr>
                  <a:xfrm>
                    <a:off x="2231640" y="4773960"/>
                    <a:ext cx="1220400" cy="214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0" name=""/>
              <p:cNvGrpSpPr/>
              <p:nvPr/>
            </p:nvGrpSpPr>
            <p:grpSpPr>
              <a:xfrm>
                <a:off x="3452760" y="4773960"/>
                <a:ext cx="1415160" cy="214920"/>
                <a:chOff x="3452760" y="4773960"/>
                <a:chExt cx="1415160" cy="21492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3452760" y="4773960"/>
                  <a:ext cx="1415160" cy="2149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2" name=""/>
                <p:cNvGrpSpPr/>
                <p:nvPr/>
              </p:nvGrpSpPr>
              <p:grpSpPr>
                <a:xfrm>
                  <a:off x="3452760" y="4773960"/>
                  <a:ext cx="1414800" cy="214920"/>
                  <a:chOff x="3452760" y="4773960"/>
                  <a:chExt cx="1414800" cy="21492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3526200" y="4773960"/>
                    <a:ext cx="1267200" cy="21492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3452760" y="4773960"/>
                    <a:ext cx="1414800" cy="214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5" name=""/>
              <p:cNvGrpSpPr/>
              <p:nvPr/>
            </p:nvGrpSpPr>
            <p:grpSpPr>
              <a:xfrm>
                <a:off x="4868640" y="4773960"/>
                <a:ext cx="1415160" cy="214920"/>
                <a:chOff x="4868640" y="4773960"/>
                <a:chExt cx="1415160" cy="2149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4868640" y="4773960"/>
                  <a:ext cx="1415160" cy="2149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7" name=""/>
                <p:cNvGrpSpPr/>
                <p:nvPr/>
              </p:nvGrpSpPr>
              <p:grpSpPr>
                <a:xfrm>
                  <a:off x="4868640" y="4773960"/>
                  <a:ext cx="1414800" cy="214920"/>
                  <a:chOff x="4868640" y="4773960"/>
                  <a:chExt cx="1414800" cy="214920"/>
                </a:xfrm>
              </p:grpSpPr>
              <p:sp>
                <p:nvSpPr>
                  <p:cNvPr id="478" name=""/>
                  <p:cNvSpPr/>
                  <p:nvPr/>
                </p:nvSpPr>
                <p:spPr>
                  <a:xfrm>
                    <a:off x="4942080" y="4773960"/>
                    <a:ext cx="1267200" cy="21492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4868640" y="4773960"/>
                    <a:ext cx="1414800" cy="214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0" name=""/>
              <p:cNvGrpSpPr/>
              <p:nvPr/>
            </p:nvGrpSpPr>
            <p:grpSpPr>
              <a:xfrm>
                <a:off x="6284520" y="4773960"/>
                <a:ext cx="1241640" cy="214920"/>
                <a:chOff x="6284520" y="4773960"/>
                <a:chExt cx="1241640" cy="2149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284520" y="4773960"/>
                  <a:ext cx="1241640" cy="2149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2" name=""/>
                <p:cNvGrpSpPr/>
                <p:nvPr/>
              </p:nvGrpSpPr>
              <p:grpSpPr>
                <a:xfrm>
                  <a:off x="6284520" y="4773960"/>
                  <a:ext cx="1241280" cy="214920"/>
                  <a:chOff x="6284520" y="4773960"/>
                  <a:chExt cx="1241280" cy="214920"/>
                </a:xfrm>
              </p:grpSpPr>
              <p:sp>
                <p:nvSpPr>
                  <p:cNvPr id="483" name=""/>
                  <p:cNvSpPr/>
                  <p:nvPr/>
                </p:nvSpPr>
                <p:spPr>
                  <a:xfrm>
                    <a:off x="6358320" y="4773960"/>
                    <a:ext cx="1093320" cy="21492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284520" y="4773960"/>
                    <a:ext cx="1241280" cy="214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7526520" y="4773960"/>
                <a:ext cx="1241640" cy="214920"/>
                <a:chOff x="7526520" y="4773960"/>
                <a:chExt cx="1241640" cy="2149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7526520" y="4773960"/>
                  <a:ext cx="1241640" cy="214920"/>
                </a:xfrm>
                <a:prstGeom prst="rect">
                  <a:avLst/>
                </a:prstGeom>
                <a:solidFill>
                  <a:srgbClr val="66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7" name=""/>
                <p:cNvGrpSpPr/>
                <p:nvPr/>
              </p:nvGrpSpPr>
              <p:grpSpPr>
                <a:xfrm>
                  <a:off x="7526520" y="4773960"/>
                  <a:ext cx="1241280" cy="214920"/>
                  <a:chOff x="7526520" y="4773960"/>
                  <a:chExt cx="1241280" cy="21492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>
                    <a:off x="7599960" y="4773960"/>
                    <a:ext cx="1093680" cy="214920"/>
                  </a:xfrm>
                  <a:prstGeom prst="rect">
                    <a:avLst/>
                  </a:prstGeom>
                  <a:solidFill>
                    <a:srgbClr val="66666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7526520" y="4773960"/>
                    <a:ext cx="1241280" cy="2149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0" name=""/>
              <p:cNvGrpSpPr/>
              <p:nvPr/>
            </p:nvGrpSpPr>
            <p:grpSpPr>
              <a:xfrm>
                <a:off x="473400" y="4988880"/>
                <a:ext cx="515520" cy="235800"/>
                <a:chOff x="473400" y="4988880"/>
                <a:chExt cx="515520" cy="2358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547200" y="4988880"/>
                  <a:ext cx="3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No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473400" y="4988880"/>
                  <a:ext cx="51552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989280" y="4988880"/>
                <a:ext cx="1241640" cy="235800"/>
                <a:chOff x="989280" y="4988880"/>
                <a:chExt cx="1241640" cy="23580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1063080" y="498888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989280" y="49888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2231640" y="4988880"/>
                <a:ext cx="1220760" cy="235800"/>
                <a:chOff x="2231640" y="4988880"/>
                <a:chExt cx="1220760" cy="2358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305080" y="4988880"/>
                  <a:ext cx="10731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231640" y="4988880"/>
                  <a:ext cx="12207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3452760" y="4988880"/>
                <a:ext cx="1415160" cy="235800"/>
                <a:chOff x="3452760" y="4988880"/>
                <a:chExt cx="1415160" cy="2358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3526200" y="498888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3452760" y="498888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4868640" y="4988880"/>
                <a:ext cx="1415160" cy="235800"/>
                <a:chOff x="4868640" y="4988880"/>
                <a:chExt cx="1415160" cy="2358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4942080" y="498888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4868640" y="498888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6284520" y="4988880"/>
                <a:ext cx="1241640" cy="235800"/>
                <a:chOff x="6284520" y="4988880"/>
                <a:chExt cx="1241640" cy="2358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6358320" y="498888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284520" y="49888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7526520" y="4988880"/>
                <a:ext cx="1241640" cy="235800"/>
                <a:chOff x="7526520" y="4988880"/>
                <a:chExt cx="1241640" cy="2358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7599960" y="4988880"/>
                  <a:ext cx="109404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7526520" y="49888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473400" y="5224680"/>
                <a:ext cx="515520" cy="235440"/>
                <a:chOff x="473400" y="5224680"/>
                <a:chExt cx="515520" cy="2354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547200" y="5224680"/>
                  <a:ext cx="3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Gen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73400" y="5224680"/>
                  <a:ext cx="51552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989280" y="5224680"/>
                <a:ext cx="1241640" cy="235440"/>
                <a:chOff x="989280" y="5224680"/>
                <a:chExt cx="1241640" cy="23544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1063080" y="5224680"/>
                  <a:ext cx="109368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989280" y="522468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2231640" y="5224680"/>
                <a:ext cx="1220760" cy="235440"/>
                <a:chOff x="2231640" y="5224680"/>
                <a:chExt cx="1220760" cy="23544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2305080" y="5224680"/>
                  <a:ext cx="10731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231640" y="5224680"/>
                  <a:ext cx="12207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452760" y="5224680"/>
                <a:ext cx="1415160" cy="235440"/>
                <a:chOff x="3452760" y="5224680"/>
                <a:chExt cx="1415160" cy="2354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526200" y="5224680"/>
                  <a:ext cx="12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452760" y="5224680"/>
                  <a:ext cx="14151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4868640" y="5224680"/>
                <a:ext cx="1415160" cy="235440"/>
                <a:chOff x="4868640" y="5224680"/>
                <a:chExt cx="1415160" cy="23544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4942080" y="5224680"/>
                  <a:ext cx="12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4868640" y="5224680"/>
                  <a:ext cx="14151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6284520" y="5224680"/>
                <a:ext cx="1241640" cy="235440"/>
                <a:chOff x="6284520" y="5224680"/>
                <a:chExt cx="1241640" cy="23544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6358320" y="5224680"/>
                  <a:ext cx="109368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284520" y="522468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7526520" y="5224680"/>
                <a:ext cx="1241640" cy="235440"/>
                <a:chOff x="7526520" y="5224680"/>
                <a:chExt cx="1241640" cy="2354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599960" y="5224680"/>
                  <a:ext cx="109404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7526520" y="522468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473400" y="5460480"/>
                <a:ext cx="515520" cy="235800"/>
                <a:chOff x="473400" y="5460480"/>
                <a:chExt cx="515520" cy="23580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547200" y="5460480"/>
                  <a:ext cx="3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Dat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73400" y="5460480"/>
                  <a:ext cx="51552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989280" y="5460480"/>
                <a:ext cx="1241640" cy="235800"/>
                <a:chOff x="989280" y="5460480"/>
                <a:chExt cx="1241640" cy="2358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063080" y="546048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989280" y="54604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2231640" y="5460480"/>
                <a:ext cx="1220760" cy="235800"/>
                <a:chOff x="2231640" y="5460480"/>
                <a:chExt cx="1220760" cy="2358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2305080" y="5460480"/>
                  <a:ext cx="10731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231640" y="5460480"/>
                  <a:ext cx="12207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3452760" y="5460480"/>
                <a:ext cx="1415160" cy="235800"/>
                <a:chOff x="3452760" y="5460480"/>
                <a:chExt cx="1415160" cy="2358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3526200" y="546048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52760" y="546048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4868640" y="5460480"/>
                <a:ext cx="1415160" cy="235800"/>
                <a:chOff x="4868640" y="5460480"/>
                <a:chExt cx="1415160" cy="2358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4942080" y="546048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868640" y="546048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6284520" y="5460480"/>
                <a:ext cx="1241640" cy="235800"/>
                <a:chOff x="6284520" y="5460480"/>
                <a:chExt cx="1241640" cy="23580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358320" y="546048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284520" y="54604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7526520" y="5460480"/>
                <a:ext cx="1241640" cy="235800"/>
                <a:chOff x="7526520" y="5460480"/>
                <a:chExt cx="1241640" cy="2358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7599960" y="5460480"/>
                  <a:ext cx="109404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526520" y="54604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473400" y="5696280"/>
                <a:ext cx="515520" cy="235800"/>
                <a:chOff x="473400" y="5696280"/>
                <a:chExt cx="515520" cy="23580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547200" y="5696280"/>
                  <a:ext cx="3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c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73400" y="5696280"/>
                  <a:ext cx="51552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989280" y="5696280"/>
                <a:ext cx="1241640" cy="235800"/>
                <a:chOff x="989280" y="5696280"/>
                <a:chExt cx="1241640" cy="2358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1063080" y="569628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989280" y="56962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2231640" y="5696280"/>
                <a:ext cx="1220760" cy="235800"/>
                <a:chOff x="2231640" y="5696280"/>
                <a:chExt cx="1220760" cy="23580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2305080" y="5696280"/>
                  <a:ext cx="10731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231640" y="5696280"/>
                  <a:ext cx="12207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3452760" y="5696280"/>
                <a:ext cx="1415160" cy="235800"/>
                <a:chOff x="3452760" y="5696280"/>
                <a:chExt cx="1415160" cy="2358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3526200" y="569628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452760" y="569628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4868640" y="5696280"/>
                <a:ext cx="1415160" cy="235800"/>
                <a:chOff x="4868640" y="5696280"/>
                <a:chExt cx="1415160" cy="23580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4942080" y="569628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4868640" y="569628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6284520" y="5696280"/>
                <a:ext cx="1241640" cy="235800"/>
                <a:chOff x="6284520" y="5696280"/>
                <a:chExt cx="1241640" cy="23580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6358320" y="569628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6284520" y="56962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7526520" y="5696280"/>
                <a:ext cx="1241640" cy="235800"/>
                <a:chOff x="7526520" y="5696280"/>
                <a:chExt cx="1241640" cy="23580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7599960" y="5696280"/>
                  <a:ext cx="109404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526520" y="56962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473400" y="5932080"/>
                <a:ext cx="515520" cy="235440"/>
                <a:chOff x="473400" y="5932080"/>
                <a:chExt cx="515520" cy="23544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547200" y="5932080"/>
                  <a:ext cx="3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Vo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73400" y="5932080"/>
                  <a:ext cx="51552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989280" y="5932080"/>
                <a:ext cx="1241640" cy="235440"/>
                <a:chOff x="989280" y="5932080"/>
                <a:chExt cx="1241640" cy="23544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1063080" y="5932080"/>
                  <a:ext cx="109368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989280" y="593208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2231640" y="5932080"/>
                <a:ext cx="1220760" cy="235440"/>
                <a:chOff x="2231640" y="5932080"/>
                <a:chExt cx="1220760" cy="23544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305080" y="5932080"/>
                  <a:ext cx="10731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231640" y="5932080"/>
                  <a:ext cx="12207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3452760" y="5932080"/>
                <a:ext cx="1415160" cy="235440"/>
                <a:chOff x="3452760" y="5932080"/>
                <a:chExt cx="1415160" cy="2354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3526200" y="5932080"/>
                  <a:ext cx="12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452760" y="5932080"/>
                  <a:ext cx="14151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6" name=""/>
              <p:cNvGrpSpPr/>
              <p:nvPr/>
            </p:nvGrpSpPr>
            <p:grpSpPr>
              <a:xfrm>
                <a:off x="4868640" y="5932080"/>
                <a:ext cx="1415160" cy="235440"/>
                <a:chOff x="4868640" y="5932080"/>
                <a:chExt cx="1415160" cy="23544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4942080" y="5932080"/>
                  <a:ext cx="126756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4868640" y="5932080"/>
                  <a:ext cx="141516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9" name=""/>
              <p:cNvGrpSpPr/>
              <p:nvPr/>
            </p:nvGrpSpPr>
            <p:grpSpPr>
              <a:xfrm>
                <a:off x="6284520" y="5932080"/>
                <a:ext cx="1241640" cy="235440"/>
                <a:chOff x="6284520" y="5932080"/>
                <a:chExt cx="1241640" cy="235440"/>
              </a:xfrm>
            </p:grpSpPr>
            <p:sp>
              <p:nvSpPr>
                <p:cNvPr id="590" name=""/>
                <p:cNvSpPr/>
                <p:nvPr/>
              </p:nvSpPr>
              <p:spPr>
                <a:xfrm>
                  <a:off x="6358320" y="5932080"/>
                  <a:ext cx="109368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6284520" y="593208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7526520" y="5932080"/>
                <a:ext cx="1241640" cy="235440"/>
                <a:chOff x="7526520" y="5932080"/>
                <a:chExt cx="1241640" cy="23544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7599960" y="5932080"/>
                  <a:ext cx="1094040" cy="23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7526520" y="5932080"/>
                  <a:ext cx="1241640" cy="235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5" name=""/>
              <p:cNvGrpSpPr/>
              <p:nvPr/>
            </p:nvGrpSpPr>
            <p:grpSpPr>
              <a:xfrm>
                <a:off x="473400" y="6167880"/>
                <a:ext cx="515520" cy="235800"/>
                <a:chOff x="473400" y="6167880"/>
                <a:chExt cx="515520" cy="235800"/>
              </a:xfrm>
            </p:grpSpPr>
            <p:sp>
              <p:nvSpPr>
                <p:cNvPr id="596" name=""/>
                <p:cNvSpPr/>
                <p:nvPr/>
              </p:nvSpPr>
              <p:spPr>
                <a:xfrm>
                  <a:off x="547200" y="6167880"/>
                  <a:ext cx="3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b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473400" y="6167880"/>
                  <a:ext cx="51552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8" name=""/>
              <p:cNvGrpSpPr/>
              <p:nvPr/>
            </p:nvGrpSpPr>
            <p:grpSpPr>
              <a:xfrm>
                <a:off x="989280" y="6167880"/>
                <a:ext cx="1241640" cy="235800"/>
                <a:chOff x="989280" y="6167880"/>
                <a:chExt cx="1241640" cy="235800"/>
              </a:xfrm>
            </p:grpSpPr>
            <p:sp>
              <p:nvSpPr>
                <p:cNvPr id="599" name=""/>
                <p:cNvSpPr/>
                <p:nvPr/>
              </p:nvSpPr>
              <p:spPr>
                <a:xfrm>
                  <a:off x="1063080" y="616788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iv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989280" y="61678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1" name=""/>
              <p:cNvGrpSpPr/>
              <p:nvPr/>
            </p:nvGrpSpPr>
            <p:grpSpPr>
              <a:xfrm>
                <a:off x="2231640" y="6167880"/>
                <a:ext cx="1220760" cy="235800"/>
                <a:chOff x="2231640" y="6167880"/>
                <a:chExt cx="1220760" cy="235800"/>
              </a:xfrm>
            </p:grpSpPr>
            <p:sp>
              <p:nvSpPr>
                <p:cNvPr id="602" name=""/>
                <p:cNvSpPr/>
                <p:nvPr/>
              </p:nvSpPr>
              <p:spPr>
                <a:xfrm>
                  <a:off x="2305080" y="6167880"/>
                  <a:ext cx="10731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2231640" y="6167880"/>
                  <a:ext cx="12207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3452760" y="6167880"/>
                <a:ext cx="1415160" cy="235800"/>
                <a:chOff x="3452760" y="6167880"/>
                <a:chExt cx="1415160" cy="23580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3526200" y="616788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3452760" y="616788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4868640" y="6167880"/>
                <a:ext cx="1415160" cy="235800"/>
                <a:chOff x="4868640" y="6167880"/>
                <a:chExt cx="1415160" cy="23580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4942080" y="6167880"/>
                  <a:ext cx="126756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868640" y="6167880"/>
                  <a:ext cx="141516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6284520" y="6167880"/>
                <a:ext cx="1241640" cy="235800"/>
                <a:chOff x="6284520" y="6167880"/>
                <a:chExt cx="1241640" cy="23580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6358320" y="6167880"/>
                  <a:ext cx="109368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6284520" y="61678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3" name=""/>
              <p:cNvGrpSpPr/>
              <p:nvPr/>
            </p:nvGrpSpPr>
            <p:grpSpPr>
              <a:xfrm>
                <a:off x="7526520" y="6167880"/>
                <a:ext cx="1241640" cy="235800"/>
                <a:chOff x="7526520" y="6167880"/>
                <a:chExt cx="1241640" cy="235800"/>
              </a:xfrm>
            </p:grpSpPr>
            <p:sp>
              <p:nvSpPr>
                <p:cNvPr id="614" name=""/>
                <p:cNvSpPr/>
                <p:nvPr/>
              </p:nvSpPr>
              <p:spPr>
                <a:xfrm>
                  <a:off x="7599960" y="6167880"/>
                  <a:ext cx="1094040" cy="23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7526520" y="6167880"/>
                  <a:ext cx="1241640" cy="23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6" name=""/>
            <p:cNvSpPr/>
            <p:nvPr/>
          </p:nvSpPr>
          <p:spPr>
            <a:xfrm>
              <a:off x="468360" y="3357720"/>
              <a:ext cx="8305560" cy="30477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/>
          <p:cNvSpPr/>
          <p:nvPr/>
        </p:nvSpPr>
        <p:spPr>
          <a:xfrm>
            <a:off x="3505680" y="3200400"/>
            <a:ext cx="8802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α κλιθούν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B389-95D9-4CF4-959C-BFAB2F327B0F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8" name=""/>
          <p:cNvGraphicFramePr/>
          <p:nvPr/>
        </p:nvGraphicFramePr>
        <p:xfrm>
          <a:off x="611280" y="549360"/>
          <a:ext cx="8001000" cy="5181480"/>
        </p:xfrm>
        <a:graphic>
          <a:graphicData uri="http://schemas.openxmlformats.org/drawingml/2006/table">
            <a:tbl>
              <a:tblPr/>
              <a:tblGrid>
                <a:gridCol w="1987560"/>
                <a:gridCol w="60134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2ο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c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cc4"/>
                    </a:solidFill>
                  </a:tcPr>
                </a:tc>
              </a:tr>
              <a:tr h="45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Διδασκαλία εμπέδωση 3ης κλίση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ισημαίνουμε ακόμη.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Τις διαφορές και εξαιρέσεις των φωνηεντολήκτων – ισοσυλλάβων αρσενικών και θηλυκών (φ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Τις ιδιαιτερότητες στην κλίση των ουδετέρων φωνηεντολήκτων ουσιαστικών (φ.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60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57C-D708-482C-9861-1C3F2CFD6EE8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395280" y="333360"/>
            <a:ext cx="4754520" cy="274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Γ΄ ΚΛΙΣΗ : </a:t>
            </a: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ΦΩΝΗΕΝΤΟΛΗΚΤΑ(- ΙΣΟΣΥΛΛΑΒΑ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5219640" y="333360"/>
            <a:ext cx="2193840" cy="274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ΑΡΣΕΝΙΚΑ - ΘΗΛΥΚΑ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67640" y="189000"/>
            <a:ext cx="102852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ΦΟΡΜΑ 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1" lang="el-GR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240" y="-30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9280" y="549360"/>
            <a:ext cx="8763120" cy="9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0" lang="el-G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τη γενική πληθυντικού σχηματίζονται σε -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m</a:t>
            </a:r>
            <a:r>
              <a:rPr b="0" lang="en-US" sz="15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[1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Ορισμένα ουσιαστικά σχηματίζουν αιτιατική ενικού  σε </a:t>
            </a:r>
            <a:r>
              <a:rPr b="0" i="1" lang="el-GR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m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αφαιρ. εν. σε </a:t>
            </a:r>
            <a:r>
              <a:rPr b="0" i="1" lang="el-GR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0" i="1" lang="en-US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</a:t>
            </a:r>
            <a:r>
              <a:rPr b="0" i="1" lang="el-GR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υναντούμε τα :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apolis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beris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rris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is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ελλειπτικό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240" y="-30448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0" y="1773360"/>
            <a:ext cx="8838720" cy="2361960"/>
            <a:chOff x="0" y="1773360"/>
            <a:chExt cx="8838720" cy="2361960"/>
          </a:xfrm>
        </p:grpSpPr>
        <p:grpSp>
          <p:nvGrpSpPr>
            <p:cNvPr id="626" name=""/>
            <p:cNvGrpSpPr/>
            <p:nvPr/>
          </p:nvGrpSpPr>
          <p:grpSpPr>
            <a:xfrm>
              <a:off x="5400" y="1776240"/>
              <a:ext cx="8827200" cy="2355840"/>
              <a:chOff x="5400" y="1776240"/>
              <a:chExt cx="8827200" cy="2355840"/>
            </a:xfrm>
          </p:grpSpPr>
          <p:grpSp>
            <p:nvGrpSpPr>
              <p:cNvPr id="627" name=""/>
              <p:cNvGrpSpPr/>
              <p:nvPr/>
            </p:nvGrpSpPr>
            <p:grpSpPr>
              <a:xfrm>
                <a:off x="5400" y="1776240"/>
                <a:ext cx="550080" cy="392400"/>
                <a:chOff x="5400" y="1776240"/>
                <a:chExt cx="550080" cy="392400"/>
              </a:xfrm>
            </p:grpSpPr>
            <p:sp>
              <p:nvSpPr>
                <p:cNvPr id="628" name=""/>
                <p:cNvSpPr/>
                <p:nvPr/>
              </p:nvSpPr>
              <p:spPr>
                <a:xfrm>
                  <a:off x="84240" y="1776240"/>
                  <a:ext cx="3920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No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5400" y="1776240"/>
                  <a:ext cx="55008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0" name=""/>
              <p:cNvGrpSpPr/>
              <p:nvPr/>
            </p:nvGrpSpPr>
            <p:grpSpPr>
              <a:xfrm>
                <a:off x="555840" y="1776240"/>
                <a:ext cx="1302480" cy="392400"/>
                <a:chOff x="555840" y="1776240"/>
                <a:chExt cx="1302480" cy="39240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634680" y="1776240"/>
                  <a:ext cx="11444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555840" y="1776240"/>
                  <a:ext cx="130248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1859040" y="1776240"/>
                <a:ext cx="1324440" cy="392400"/>
                <a:chOff x="1859040" y="1776240"/>
                <a:chExt cx="1324440" cy="39240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1937520" y="1776240"/>
                  <a:ext cx="11667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859040" y="1776240"/>
                  <a:ext cx="13244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3184200" y="1776240"/>
                <a:ext cx="1509840" cy="392400"/>
                <a:chOff x="3184200" y="1776240"/>
                <a:chExt cx="1509840" cy="392400"/>
              </a:xfrm>
            </p:grpSpPr>
            <p:sp>
              <p:nvSpPr>
                <p:cNvPr id="637" name=""/>
                <p:cNvSpPr/>
                <p:nvPr/>
              </p:nvSpPr>
              <p:spPr>
                <a:xfrm>
                  <a:off x="3262680" y="1776240"/>
                  <a:ext cx="13521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184200" y="1776240"/>
                  <a:ext cx="15098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4694400" y="1776240"/>
                <a:ext cx="1324440" cy="392400"/>
                <a:chOff x="4694400" y="1776240"/>
                <a:chExt cx="1324440" cy="39240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4772880" y="1776240"/>
                  <a:ext cx="11667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4694400" y="1776240"/>
                  <a:ext cx="13244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6019560" y="1776240"/>
                <a:ext cx="1509840" cy="392400"/>
                <a:chOff x="6019560" y="1776240"/>
                <a:chExt cx="1509840" cy="39240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6098040" y="1776240"/>
                  <a:ext cx="13521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019560" y="1776240"/>
                  <a:ext cx="15098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7530120" y="1776240"/>
                <a:ext cx="1302480" cy="392400"/>
                <a:chOff x="7530120" y="1776240"/>
                <a:chExt cx="1302480" cy="392400"/>
              </a:xfrm>
            </p:grpSpPr>
            <p:sp>
              <p:nvSpPr>
                <p:cNvPr id="646" name=""/>
                <p:cNvSpPr/>
                <p:nvPr/>
              </p:nvSpPr>
              <p:spPr>
                <a:xfrm>
                  <a:off x="7608600" y="1776240"/>
                  <a:ext cx="11448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7530120" y="1776240"/>
                  <a:ext cx="130248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8" name=""/>
              <p:cNvGrpSpPr/>
              <p:nvPr/>
            </p:nvGrpSpPr>
            <p:grpSpPr>
              <a:xfrm>
                <a:off x="5400" y="2168640"/>
                <a:ext cx="550080" cy="392760"/>
                <a:chOff x="5400" y="2168640"/>
                <a:chExt cx="550080" cy="392760"/>
              </a:xfrm>
            </p:grpSpPr>
            <p:sp>
              <p:nvSpPr>
                <p:cNvPr id="649" name=""/>
                <p:cNvSpPr/>
                <p:nvPr/>
              </p:nvSpPr>
              <p:spPr>
                <a:xfrm>
                  <a:off x="84240" y="2168640"/>
                  <a:ext cx="39204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Gen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5400" y="2168640"/>
                  <a:ext cx="55008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1" name=""/>
              <p:cNvGrpSpPr/>
              <p:nvPr/>
            </p:nvGrpSpPr>
            <p:grpSpPr>
              <a:xfrm>
                <a:off x="555840" y="2168640"/>
                <a:ext cx="1302480" cy="392760"/>
                <a:chOff x="555840" y="2168640"/>
                <a:chExt cx="1302480" cy="39276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634680" y="2168640"/>
                  <a:ext cx="114444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55840" y="2168640"/>
                  <a:ext cx="130248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4" name=""/>
              <p:cNvGrpSpPr/>
              <p:nvPr/>
            </p:nvGrpSpPr>
            <p:grpSpPr>
              <a:xfrm>
                <a:off x="1859040" y="2168640"/>
                <a:ext cx="1324440" cy="392760"/>
                <a:chOff x="1859040" y="2168640"/>
                <a:chExt cx="1324440" cy="39276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1937520" y="2168640"/>
                  <a:ext cx="11667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iu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1859040" y="2168640"/>
                  <a:ext cx="13244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7" name=""/>
              <p:cNvGrpSpPr/>
              <p:nvPr/>
            </p:nvGrpSpPr>
            <p:grpSpPr>
              <a:xfrm>
                <a:off x="3184200" y="2168640"/>
                <a:ext cx="1509840" cy="392760"/>
                <a:chOff x="3184200" y="2168640"/>
                <a:chExt cx="1509840" cy="392760"/>
              </a:xfrm>
            </p:grpSpPr>
            <p:sp>
              <p:nvSpPr>
                <p:cNvPr id="658" name=""/>
                <p:cNvSpPr/>
                <p:nvPr/>
              </p:nvSpPr>
              <p:spPr>
                <a:xfrm>
                  <a:off x="3262680" y="2168640"/>
                  <a:ext cx="13521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3184200" y="2168640"/>
                  <a:ext cx="15098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0" name=""/>
              <p:cNvGrpSpPr/>
              <p:nvPr/>
            </p:nvGrpSpPr>
            <p:grpSpPr>
              <a:xfrm>
                <a:off x="4694400" y="2168640"/>
                <a:ext cx="1324440" cy="392760"/>
                <a:chOff x="4694400" y="2168640"/>
                <a:chExt cx="1324440" cy="392760"/>
              </a:xfrm>
            </p:grpSpPr>
            <p:sp>
              <p:nvSpPr>
                <p:cNvPr id="661" name=""/>
                <p:cNvSpPr/>
                <p:nvPr/>
              </p:nvSpPr>
              <p:spPr>
                <a:xfrm>
                  <a:off x="4772880" y="2168640"/>
                  <a:ext cx="11667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4694400" y="2168640"/>
                  <a:ext cx="13244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" name=""/>
              <p:cNvGrpSpPr/>
              <p:nvPr/>
            </p:nvGrpSpPr>
            <p:grpSpPr>
              <a:xfrm>
                <a:off x="6019560" y="2168640"/>
                <a:ext cx="1509840" cy="392760"/>
                <a:chOff x="6019560" y="2168640"/>
                <a:chExt cx="1509840" cy="39276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6098040" y="2168640"/>
                  <a:ext cx="13521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6019560" y="2168640"/>
                  <a:ext cx="15098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7530120" y="2168640"/>
                <a:ext cx="1302480" cy="392760"/>
                <a:chOff x="7530120" y="2168640"/>
                <a:chExt cx="1302480" cy="39276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7608600" y="2168640"/>
                  <a:ext cx="114480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7530120" y="2168640"/>
                  <a:ext cx="130248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400" y="2561400"/>
                <a:ext cx="550080" cy="392400"/>
                <a:chOff x="5400" y="2561400"/>
                <a:chExt cx="550080" cy="39240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84240" y="2561400"/>
                  <a:ext cx="3920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Dat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400" y="2561400"/>
                  <a:ext cx="55008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555840" y="2561400"/>
                <a:ext cx="1302480" cy="392400"/>
                <a:chOff x="555840" y="2561400"/>
                <a:chExt cx="1302480" cy="39240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634680" y="2561400"/>
                  <a:ext cx="11444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555840" y="2561400"/>
                  <a:ext cx="130248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1859040" y="2561400"/>
                <a:ext cx="1324440" cy="392400"/>
                <a:chOff x="1859040" y="2561400"/>
                <a:chExt cx="1324440" cy="39240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1937520" y="2561400"/>
                  <a:ext cx="11667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ibu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1859040" y="2561400"/>
                  <a:ext cx="13244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3184200" y="2561400"/>
                <a:ext cx="1509840" cy="392400"/>
                <a:chOff x="3184200" y="2561400"/>
                <a:chExt cx="1509840" cy="39240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3262680" y="2561400"/>
                  <a:ext cx="13521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184200" y="2561400"/>
                  <a:ext cx="15098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4694400" y="2561400"/>
                <a:ext cx="1324440" cy="392400"/>
                <a:chOff x="4694400" y="2561400"/>
                <a:chExt cx="1324440" cy="3924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4772880" y="2561400"/>
                  <a:ext cx="11667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4694400" y="2561400"/>
                  <a:ext cx="13244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6019560" y="2561400"/>
                <a:ext cx="1509840" cy="392400"/>
                <a:chOff x="6019560" y="2561400"/>
                <a:chExt cx="1509840" cy="3924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6098040" y="2561400"/>
                  <a:ext cx="13521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6019560" y="2561400"/>
                  <a:ext cx="15098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7530120" y="2561400"/>
                <a:ext cx="1302480" cy="392400"/>
                <a:chOff x="7530120" y="2561400"/>
                <a:chExt cx="1302480" cy="3924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7608600" y="2561400"/>
                  <a:ext cx="11448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7530120" y="2561400"/>
                  <a:ext cx="130248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5400" y="2954160"/>
                <a:ext cx="550080" cy="392760"/>
                <a:chOff x="5400" y="2954160"/>
                <a:chExt cx="550080" cy="39276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84240" y="2954160"/>
                  <a:ext cx="39204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c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5400" y="2954160"/>
                  <a:ext cx="55008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555840" y="2954160"/>
                <a:ext cx="1302480" cy="392760"/>
                <a:chOff x="555840" y="2954160"/>
                <a:chExt cx="1302480" cy="39276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34680" y="2954160"/>
                  <a:ext cx="114444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e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5840" y="2954160"/>
                  <a:ext cx="130248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1859040" y="2954160"/>
                <a:ext cx="1324440" cy="392760"/>
                <a:chOff x="1859040" y="2954160"/>
                <a:chExt cx="1324440" cy="39276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937520" y="2954160"/>
                  <a:ext cx="11667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859040" y="2954160"/>
                  <a:ext cx="13244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3184200" y="2954160"/>
                <a:ext cx="1509840" cy="392760"/>
                <a:chOff x="3184200" y="2954160"/>
                <a:chExt cx="1509840" cy="39276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3262680" y="2954160"/>
                  <a:ext cx="13521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3184200" y="2954160"/>
                  <a:ext cx="15098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4694400" y="2954160"/>
                <a:ext cx="1324440" cy="392760"/>
                <a:chOff x="4694400" y="2954160"/>
                <a:chExt cx="1324440" cy="3927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4772880" y="2954160"/>
                  <a:ext cx="11667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694400" y="2954160"/>
                  <a:ext cx="13244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6019560" y="2954160"/>
                <a:ext cx="1509840" cy="392760"/>
                <a:chOff x="6019560" y="2954160"/>
                <a:chExt cx="1509840" cy="3927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6098040" y="2954160"/>
                  <a:ext cx="13521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6019560" y="2954160"/>
                  <a:ext cx="15098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7530120" y="2954160"/>
                <a:ext cx="1302480" cy="392760"/>
                <a:chOff x="7530120" y="2954160"/>
                <a:chExt cx="1302480" cy="3927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7608600" y="2954160"/>
                  <a:ext cx="114480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7530120" y="2954160"/>
                  <a:ext cx="130248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5400" y="3346920"/>
                <a:ext cx="550080" cy="392760"/>
                <a:chOff x="5400" y="3346920"/>
                <a:chExt cx="550080" cy="39276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84240" y="3346920"/>
                  <a:ext cx="39204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Vo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400" y="3346920"/>
                  <a:ext cx="55008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555840" y="3346920"/>
                <a:ext cx="1302480" cy="392760"/>
                <a:chOff x="555840" y="3346920"/>
                <a:chExt cx="1302480" cy="39276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634680" y="3346920"/>
                  <a:ext cx="114444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555840" y="3346920"/>
                  <a:ext cx="130248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859040" y="3346920"/>
                <a:ext cx="1324440" cy="392760"/>
                <a:chOff x="1859040" y="3346920"/>
                <a:chExt cx="1324440" cy="39276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937520" y="3346920"/>
                  <a:ext cx="11667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59040" y="3346920"/>
                  <a:ext cx="13244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3184200" y="3346920"/>
                <a:ext cx="1509840" cy="392760"/>
                <a:chOff x="3184200" y="3346920"/>
                <a:chExt cx="1509840" cy="3927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3262680" y="3346920"/>
                  <a:ext cx="13521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3184200" y="3346920"/>
                  <a:ext cx="15098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4694400" y="3346920"/>
                <a:ext cx="1324440" cy="392760"/>
                <a:chOff x="4694400" y="3346920"/>
                <a:chExt cx="1324440" cy="3927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4772880" y="3346920"/>
                  <a:ext cx="11667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4694400" y="3346920"/>
                  <a:ext cx="13244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019560" y="3346920"/>
                <a:ext cx="1509840" cy="392760"/>
                <a:chOff x="6019560" y="3346920"/>
                <a:chExt cx="1509840" cy="3927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098040" y="3346920"/>
                  <a:ext cx="135216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019560" y="3346920"/>
                  <a:ext cx="150984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7530120" y="3346920"/>
                <a:ext cx="1302480" cy="392760"/>
                <a:chOff x="7530120" y="3346920"/>
                <a:chExt cx="1302480" cy="39276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608600" y="3346920"/>
                  <a:ext cx="1144800" cy="3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de-DE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7530120" y="3346920"/>
                  <a:ext cx="1302480" cy="3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5400" y="3739680"/>
                <a:ext cx="550080" cy="392400"/>
                <a:chOff x="5400" y="3739680"/>
                <a:chExt cx="550080" cy="39240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84240" y="3739680"/>
                  <a:ext cx="3920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de-DE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bl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5400" y="3739680"/>
                  <a:ext cx="55008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555840" y="3739680"/>
                <a:ext cx="1302480" cy="392400"/>
                <a:chOff x="555840" y="3739680"/>
                <a:chExt cx="1302480" cy="39240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34680" y="3739680"/>
                  <a:ext cx="114444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5840" y="3739680"/>
                  <a:ext cx="130248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1859040" y="3739680"/>
                <a:ext cx="1324440" cy="392400"/>
                <a:chOff x="1859040" y="3739680"/>
                <a:chExt cx="1324440" cy="3924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1937520" y="3739680"/>
                  <a:ext cx="11667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u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859040" y="3739680"/>
                  <a:ext cx="13244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3184200" y="3739680"/>
                <a:ext cx="1509840" cy="392400"/>
                <a:chOff x="3184200" y="3739680"/>
                <a:chExt cx="1509840" cy="3924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262680" y="3739680"/>
                  <a:ext cx="13521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184200" y="3739680"/>
                  <a:ext cx="15098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4694400" y="3739680"/>
                <a:ext cx="1324440" cy="392400"/>
                <a:chOff x="4694400" y="3739680"/>
                <a:chExt cx="1324440" cy="3924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4772880" y="3739680"/>
                  <a:ext cx="11667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694400" y="3739680"/>
                  <a:ext cx="13244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6019560" y="3739680"/>
                <a:ext cx="1509840" cy="392400"/>
                <a:chOff x="6019560" y="3739680"/>
                <a:chExt cx="1509840" cy="39240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6098040" y="3739680"/>
                  <a:ext cx="135216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6019560" y="3739680"/>
                  <a:ext cx="150984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0" name=""/>
              <p:cNvGrpSpPr/>
              <p:nvPr/>
            </p:nvGrpSpPr>
            <p:grpSpPr>
              <a:xfrm>
                <a:off x="7530120" y="3739680"/>
                <a:ext cx="1302480" cy="392400"/>
                <a:chOff x="7530120" y="3739680"/>
                <a:chExt cx="1302480" cy="39240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7608600" y="3739680"/>
                  <a:ext cx="114480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ur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7530120" y="3739680"/>
                  <a:ext cx="130248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3" name=""/>
            <p:cNvSpPr/>
            <p:nvPr/>
          </p:nvSpPr>
          <p:spPr>
            <a:xfrm>
              <a:off x="0" y="1773360"/>
              <a:ext cx="8838720" cy="23619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3240" y="391176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0" y="4221000"/>
            <a:ext cx="8819640" cy="2016360"/>
            <a:chOff x="0" y="4221000"/>
            <a:chExt cx="8819640" cy="2016360"/>
          </a:xfrm>
        </p:grpSpPr>
        <p:grpSp>
          <p:nvGrpSpPr>
            <p:cNvPr id="756" name=""/>
            <p:cNvGrpSpPr/>
            <p:nvPr/>
          </p:nvGrpSpPr>
          <p:grpSpPr>
            <a:xfrm>
              <a:off x="5040" y="4223160"/>
              <a:ext cx="8807760" cy="2011680"/>
              <a:chOff x="5040" y="4223160"/>
              <a:chExt cx="8807760" cy="2011680"/>
            </a:xfrm>
          </p:grpSpPr>
          <p:grpSp>
            <p:nvGrpSpPr>
              <p:cNvPr id="757" name=""/>
              <p:cNvGrpSpPr/>
              <p:nvPr/>
            </p:nvGrpSpPr>
            <p:grpSpPr>
              <a:xfrm>
                <a:off x="5040" y="4223160"/>
                <a:ext cx="549000" cy="335160"/>
                <a:chOff x="5040" y="4223160"/>
                <a:chExt cx="549000" cy="33516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83880" y="4223160"/>
                  <a:ext cx="3913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No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040" y="4223160"/>
                  <a:ext cx="5490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554400" y="4223160"/>
                <a:ext cx="1299600" cy="335160"/>
                <a:chOff x="554400" y="4223160"/>
                <a:chExt cx="1299600" cy="33516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33240" y="4223160"/>
                  <a:ext cx="11419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554400" y="422316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1854720" y="4223160"/>
                <a:ext cx="1321920" cy="335160"/>
                <a:chOff x="1854720" y="4223160"/>
                <a:chExt cx="1321920" cy="33516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1933200" y="422316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r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54720" y="422316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3177000" y="4223160"/>
                <a:ext cx="1506600" cy="335160"/>
                <a:chOff x="3177000" y="4223160"/>
                <a:chExt cx="1506600" cy="33516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3255480" y="422316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3177000" y="422316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4683960" y="4223160"/>
                <a:ext cx="1321920" cy="335160"/>
                <a:chOff x="4683960" y="4223160"/>
                <a:chExt cx="1321920" cy="33516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4762440" y="422316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683960" y="422316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6006240" y="4223160"/>
                <a:ext cx="1506600" cy="335160"/>
                <a:chOff x="6006240" y="4223160"/>
                <a:chExt cx="1506600" cy="33516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6084720" y="422316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006240" y="422316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7513200" y="4223160"/>
                <a:ext cx="1299600" cy="335160"/>
                <a:chOff x="7513200" y="4223160"/>
                <a:chExt cx="1299600" cy="33516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7591320" y="4223160"/>
                  <a:ext cx="1142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7513200" y="422316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5040" y="4558320"/>
                <a:ext cx="549000" cy="335160"/>
                <a:chOff x="5040" y="4558320"/>
                <a:chExt cx="549000" cy="33516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83880" y="4558320"/>
                  <a:ext cx="3913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Gen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5040" y="4558320"/>
                  <a:ext cx="5490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554400" y="4558320"/>
                <a:ext cx="1299600" cy="335160"/>
                <a:chOff x="554400" y="4558320"/>
                <a:chExt cx="1299600" cy="335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633240" y="4558320"/>
                  <a:ext cx="11419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54400" y="455832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1854720" y="4558320"/>
                <a:ext cx="1321920" cy="335160"/>
                <a:chOff x="1854720" y="4558320"/>
                <a:chExt cx="1321920" cy="33516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1933200" y="455832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1854720" y="455832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7" name=""/>
              <p:cNvGrpSpPr/>
              <p:nvPr/>
            </p:nvGrpSpPr>
            <p:grpSpPr>
              <a:xfrm>
                <a:off x="3177000" y="4558320"/>
                <a:ext cx="1506600" cy="335160"/>
                <a:chOff x="3177000" y="4558320"/>
                <a:chExt cx="1506600" cy="335160"/>
              </a:xfrm>
            </p:grpSpPr>
            <p:sp>
              <p:nvSpPr>
                <p:cNvPr id="788" name=""/>
                <p:cNvSpPr/>
                <p:nvPr/>
              </p:nvSpPr>
              <p:spPr>
                <a:xfrm>
                  <a:off x="3255480" y="455832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" name=""/>
                <p:cNvSpPr/>
                <p:nvPr/>
              </p:nvSpPr>
              <p:spPr>
                <a:xfrm>
                  <a:off x="3177000" y="455832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0" name=""/>
              <p:cNvGrpSpPr/>
              <p:nvPr/>
            </p:nvGrpSpPr>
            <p:grpSpPr>
              <a:xfrm>
                <a:off x="4683960" y="4558320"/>
                <a:ext cx="1321920" cy="335160"/>
                <a:chOff x="4683960" y="4558320"/>
                <a:chExt cx="1321920" cy="335160"/>
              </a:xfrm>
            </p:grpSpPr>
            <p:sp>
              <p:nvSpPr>
                <p:cNvPr id="791" name=""/>
                <p:cNvSpPr/>
                <p:nvPr/>
              </p:nvSpPr>
              <p:spPr>
                <a:xfrm>
                  <a:off x="4762440" y="455832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4683960" y="455832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3" name=""/>
              <p:cNvGrpSpPr/>
              <p:nvPr/>
            </p:nvGrpSpPr>
            <p:grpSpPr>
              <a:xfrm>
                <a:off x="6006240" y="4558320"/>
                <a:ext cx="1506600" cy="335160"/>
                <a:chOff x="6006240" y="4558320"/>
                <a:chExt cx="1506600" cy="33516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6084720" y="455832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r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6006240" y="455832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6" name=""/>
              <p:cNvGrpSpPr/>
              <p:nvPr/>
            </p:nvGrpSpPr>
            <p:grpSpPr>
              <a:xfrm>
                <a:off x="7513200" y="4558320"/>
                <a:ext cx="1299600" cy="335160"/>
                <a:chOff x="7513200" y="4558320"/>
                <a:chExt cx="1299600" cy="33516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7591320" y="4558320"/>
                  <a:ext cx="1142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7513200" y="455832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9" name=""/>
              <p:cNvGrpSpPr/>
              <p:nvPr/>
            </p:nvGrpSpPr>
            <p:grpSpPr>
              <a:xfrm>
                <a:off x="5040" y="4893480"/>
                <a:ext cx="549000" cy="335160"/>
                <a:chOff x="5040" y="4893480"/>
                <a:chExt cx="549000" cy="33516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83880" y="4893480"/>
                  <a:ext cx="3913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Dat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5040" y="4893480"/>
                  <a:ext cx="5490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554400" y="4893480"/>
                <a:ext cx="1299600" cy="335160"/>
                <a:chOff x="554400" y="4893480"/>
                <a:chExt cx="1299600" cy="33516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633240" y="4893480"/>
                  <a:ext cx="11419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54400" y="489348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1854720" y="4893480"/>
                <a:ext cx="1321920" cy="335160"/>
                <a:chOff x="1854720" y="4893480"/>
                <a:chExt cx="1321920" cy="33516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1933200" y="489348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1854720" y="489348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3177000" y="4893480"/>
                <a:ext cx="1506600" cy="335160"/>
                <a:chOff x="3177000" y="4893480"/>
                <a:chExt cx="1506600" cy="33516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3255480" y="489348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3177000" y="489348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1" name=""/>
              <p:cNvGrpSpPr/>
              <p:nvPr/>
            </p:nvGrpSpPr>
            <p:grpSpPr>
              <a:xfrm>
                <a:off x="4683960" y="4893480"/>
                <a:ext cx="1321920" cy="335160"/>
                <a:chOff x="4683960" y="4893480"/>
                <a:chExt cx="1321920" cy="335160"/>
              </a:xfrm>
            </p:grpSpPr>
            <p:sp>
              <p:nvSpPr>
                <p:cNvPr id="812" name=""/>
                <p:cNvSpPr/>
                <p:nvPr/>
              </p:nvSpPr>
              <p:spPr>
                <a:xfrm>
                  <a:off x="4762440" y="489348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683960" y="489348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"/>
              <p:cNvGrpSpPr/>
              <p:nvPr/>
            </p:nvGrpSpPr>
            <p:grpSpPr>
              <a:xfrm>
                <a:off x="6006240" y="4893480"/>
                <a:ext cx="1506600" cy="335160"/>
                <a:chOff x="6006240" y="4893480"/>
                <a:chExt cx="1506600" cy="33516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6084720" y="489348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6006240" y="489348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7513200" y="4893480"/>
                <a:ext cx="1299600" cy="335160"/>
                <a:chOff x="7513200" y="4893480"/>
                <a:chExt cx="1299600" cy="33516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7591320" y="4893480"/>
                  <a:ext cx="1142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7513200" y="489348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" name=""/>
              <p:cNvGrpSpPr/>
              <p:nvPr/>
            </p:nvGrpSpPr>
            <p:grpSpPr>
              <a:xfrm>
                <a:off x="5040" y="5229000"/>
                <a:ext cx="549000" cy="335160"/>
                <a:chOff x="5040" y="5229000"/>
                <a:chExt cx="549000" cy="335160"/>
              </a:xfrm>
            </p:grpSpPr>
            <p:sp>
              <p:nvSpPr>
                <p:cNvPr id="821" name=""/>
                <p:cNvSpPr/>
                <p:nvPr/>
              </p:nvSpPr>
              <p:spPr>
                <a:xfrm>
                  <a:off x="83880" y="5229000"/>
                  <a:ext cx="3913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c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5040" y="5229000"/>
                  <a:ext cx="5490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3" name=""/>
              <p:cNvGrpSpPr/>
              <p:nvPr/>
            </p:nvGrpSpPr>
            <p:grpSpPr>
              <a:xfrm>
                <a:off x="554400" y="5229000"/>
                <a:ext cx="1299600" cy="335160"/>
                <a:chOff x="554400" y="5229000"/>
                <a:chExt cx="1299600" cy="335160"/>
              </a:xfrm>
            </p:grpSpPr>
            <p:sp>
              <p:nvSpPr>
                <p:cNvPr id="824" name=""/>
                <p:cNvSpPr/>
                <p:nvPr/>
              </p:nvSpPr>
              <p:spPr>
                <a:xfrm>
                  <a:off x="633240" y="5229000"/>
                  <a:ext cx="11419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554400" y="522900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6" name=""/>
              <p:cNvGrpSpPr/>
              <p:nvPr/>
            </p:nvGrpSpPr>
            <p:grpSpPr>
              <a:xfrm>
                <a:off x="1854720" y="5229000"/>
                <a:ext cx="1321920" cy="335160"/>
                <a:chOff x="1854720" y="5229000"/>
                <a:chExt cx="1321920" cy="335160"/>
              </a:xfrm>
            </p:grpSpPr>
            <p:sp>
              <p:nvSpPr>
                <p:cNvPr id="827" name=""/>
                <p:cNvSpPr/>
                <p:nvPr/>
              </p:nvSpPr>
              <p:spPr>
                <a:xfrm>
                  <a:off x="1933200" y="522900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1854720" y="522900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" name=""/>
              <p:cNvGrpSpPr/>
              <p:nvPr/>
            </p:nvGrpSpPr>
            <p:grpSpPr>
              <a:xfrm>
                <a:off x="3177000" y="5229000"/>
                <a:ext cx="1506600" cy="335160"/>
                <a:chOff x="3177000" y="5229000"/>
                <a:chExt cx="1506600" cy="335160"/>
              </a:xfrm>
            </p:grpSpPr>
            <p:sp>
              <p:nvSpPr>
                <p:cNvPr id="830" name=""/>
                <p:cNvSpPr/>
                <p:nvPr/>
              </p:nvSpPr>
              <p:spPr>
                <a:xfrm>
                  <a:off x="3255480" y="522900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3177000" y="522900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2" name=""/>
              <p:cNvGrpSpPr/>
              <p:nvPr/>
            </p:nvGrpSpPr>
            <p:grpSpPr>
              <a:xfrm>
                <a:off x="4683960" y="5229000"/>
                <a:ext cx="1321920" cy="335160"/>
                <a:chOff x="4683960" y="5229000"/>
                <a:chExt cx="1321920" cy="335160"/>
              </a:xfrm>
            </p:grpSpPr>
            <p:sp>
              <p:nvSpPr>
                <p:cNvPr id="833" name=""/>
                <p:cNvSpPr/>
                <p:nvPr/>
              </p:nvSpPr>
              <p:spPr>
                <a:xfrm>
                  <a:off x="4762440" y="522900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4683960" y="522900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5" name=""/>
              <p:cNvGrpSpPr/>
              <p:nvPr/>
            </p:nvGrpSpPr>
            <p:grpSpPr>
              <a:xfrm>
                <a:off x="6006240" y="5229000"/>
                <a:ext cx="1506600" cy="335160"/>
                <a:chOff x="6006240" y="5229000"/>
                <a:chExt cx="1506600" cy="33516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6084720" y="522900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006240" y="522900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7513200" y="5229000"/>
                <a:ext cx="1299600" cy="335160"/>
                <a:chOff x="7513200" y="5229000"/>
                <a:chExt cx="1299600" cy="33516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7591320" y="5229000"/>
                  <a:ext cx="1142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513200" y="522900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1" name=""/>
              <p:cNvGrpSpPr/>
              <p:nvPr/>
            </p:nvGrpSpPr>
            <p:grpSpPr>
              <a:xfrm>
                <a:off x="5040" y="5564160"/>
                <a:ext cx="549000" cy="335160"/>
                <a:chOff x="5040" y="5564160"/>
                <a:chExt cx="549000" cy="335160"/>
              </a:xfrm>
            </p:grpSpPr>
            <p:sp>
              <p:nvSpPr>
                <p:cNvPr id="842" name=""/>
                <p:cNvSpPr/>
                <p:nvPr/>
              </p:nvSpPr>
              <p:spPr>
                <a:xfrm>
                  <a:off x="83880" y="5564160"/>
                  <a:ext cx="3913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Vo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5040" y="5564160"/>
                  <a:ext cx="5490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4" name=""/>
              <p:cNvGrpSpPr/>
              <p:nvPr/>
            </p:nvGrpSpPr>
            <p:grpSpPr>
              <a:xfrm>
                <a:off x="554400" y="5564160"/>
                <a:ext cx="1299600" cy="335160"/>
                <a:chOff x="554400" y="5564160"/>
                <a:chExt cx="1299600" cy="335160"/>
              </a:xfrm>
            </p:grpSpPr>
            <p:sp>
              <p:nvSpPr>
                <p:cNvPr id="845" name=""/>
                <p:cNvSpPr/>
                <p:nvPr/>
              </p:nvSpPr>
              <p:spPr>
                <a:xfrm>
                  <a:off x="633240" y="5564160"/>
                  <a:ext cx="11419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6" name=""/>
                <p:cNvSpPr/>
                <p:nvPr/>
              </p:nvSpPr>
              <p:spPr>
                <a:xfrm>
                  <a:off x="554400" y="556416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7" name=""/>
              <p:cNvGrpSpPr/>
              <p:nvPr/>
            </p:nvGrpSpPr>
            <p:grpSpPr>
              <a:xfrm>
                <a:off x="1854720" y="5564160"/>
                <a:ext cx="1321920" cy="335160"/>
                <a:chOff x="1854720" y="5564160"/>
                <a:chExt cx="1321920" cy="335160"/>
              </a:xfrm>
            </p:grpSpPr>
            <p:sp>
              <p:nvSpPr>
                <p:cNvPr id="848" name=""/>
                <p:cNvSpPr/>
                <p:nvPr/>
              </p:nvSpPr>
              <p:spPr>
                <a:xfrm>
                  <a:off x="1933200" y="556416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1854720" y="556416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" name=""/>
              <p:cNvGrpSpPr/>
              <p:nvPr/>
            </p:nvGrpSpPr>
            <p:grpSpPr>
              <a:xfrm>
                <a:off x="3177000" y="5564160"/>
                <a:ext cx="1506600" cy="335160"/>
                <a:chOff x="3177000" y="5564160"/>
                <a:chExt cx="1506600" cy="335160"/>
              </a:xfrm>
            </p:grpSpPr>
            <p:sp>
              <p:nvSpPr>
                <p:cNvPr id="851" name=""/>
                <p:cNvSpPr/>
                <p:nvPr/>
              </p:nvSpPr>
              <p:spPr>
                <a:xfrm>
                  <a:off x="3255480" y="556416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2" name=""/>
                <p:cNvSpPr/>
                <p:nvPr/>
              </p:nvSpPr>
              <p:spPr>
                <a:xfrm>
                  <a:off x="3177000" y="556416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3" name=""/>
              <p:cNvGrpSpPr/>
              <p:nvPr/>
            </p:nvGrpSpPr>
            <p:grpSpPr>
              <a:xfrm>
                <a:off x="4683960" y="5564160"/>
                <a:ext cx="1321920" cy="335160"/>
                <a:chOff x="4683960" y="5564160"/>
                <a:chExt cx="1321920" cy="335160"/>
              </a:xfrm>
            </p:grpSpPr>
            <p:sp>
              <p:nvSpPr>
                <p:cNvPr id="854" name=""/>
                <p:cNvSpPr/>
                <p:nvPr/>
              </p:nvSpPr>
              <p:spPr>
                <a:xfrm>
                  <a:off x="4762440" y="556416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4683960" y="556416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" name=""/>
              <p:cNvGrpSpPr/>
              <p:nvPr/>
            </p:nvGrpSpPr>
            <p:grpSpPr>
              <a:xfrm>
                <a:off x="6006240" y="5564160"/>
                <a:ext cx="1506600" cy="335160"/>
                <a:chOff x="6006240" y="5564160"/>
                <a:chExt cx="1506600" cy="33516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6084720" y="556416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6006240" y="556416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7513200" y="5564160"/>
                <a:ext cx="1299600" cy="335160"/>
                <a:chOff x="7513200" y="5564160"/>
                <a:chExt cx="1299600" cy="33516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7591320" y="5564160"/>
                  <a:ext cx="1142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7513200" y="556416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2" name=""/>
              <p:cNvGrpSpPr/>
              <p:nvPr/>
            </p:nvGrpSpPr>
            <p:grpSpPr>
              <a:xfrm>
                <a:off x="5040" y="5899680"/>
                <a:ext cx="549000" cy="335160"/>
                <a:chOff x="5040" y="5899680"/>
                <a:chExt cx="549000" cy="33516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83880" y="5899680"/>
                  <a:ext cx="3913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fr-FR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bl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5040" y="5899680"/>
                  <a:ext cx="5490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5" name=""/>
              <p:cNvGrpSpPr/>
              <p:nvPr/>
            </p:nvGrpSpPr>
            <p:grpSpPr>
              <a:xfrm>
                <a:off x="554400" y="5899680"/>
                <a:ext cx="1299600" cy="335160"/>
                <a:chOff x="554400" y="5899680"/>
                <a:chExt cx="1299600" cy="335160"/>
              </a:xfrm>
            </p:grpSpPr>
            <p:sp>
              <p:nvSpPr>
                <p:cNvPr id="866" name=""/>
                <p:cNvSpPr/>
                <p:nvPr/>
              </p:nvSpPr>
              <p:spPr>
                <a:xfrm>
                  <a:off x="633240" y="5899680"/>
                  <a:ext cx="114192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554400" y="589968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8" name=""/>
              <p:cNvGrpSpPr/>
              <p:nvPr/>
            </p:nvGrpSpPr>
            <p:grpSpPr>
              <a:xfrm>
                <a:off x="1854720" y="5899680"/>
                <a:ext cx="1321920" cy="335160"/>
                <a:chOff x="1854720" y="5899680"/>
                <a:chExt cx="1321920" cy="335160"/>
              </a:xfrm>
            </p:grpSpPr>
            <p:sp>
              <p:nvSpPr>
                <p:cNvPr id="869" name=""/>
                <p:cNvSpPr/>
                <p:nvPr/>
              </p:nvSpPr>
              <p:spPr>
                <a:xfrm>
                  <a:off x="1933200" y="589968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fr-FR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vi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1854720" y="589968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1" name=""/>
              <p:cNvGrpSpPr/>
              <p:nvPr/>
            </p:nvGrpSpPr>
            <p:grpSpPr>
              <a:xfrm>
                <a:off x="3177000" y="5899680"/>
                <a:ext cx="1506600" cy="335160"/>
                <a:chOff x="3177000" y="5899680"/>
                <a:chExt cx="1506600" cy="335160"/>
              </a:xfrm>
            </p:grpSpPr>
            <p:sp>
              <p:nvSpPr>
                <p:cNvPr id="872" name=""/>
                <p:cNvSpPr/>
                <p:nvPr/>
              </p:nvSpPr>
              <p:spPr>
                <a:xfrm>
                  <a:off x="3255480" y="589968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3177000" y="589968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4683960" y="5899680"/>
                <a:ext cx="1321920" cy="335160"/>
                <a:chOff x="4683960" y="5899680"/>
                <a:chExt cx="1321920" cy="33516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4762440" y="5899680"/>
                  <a:ext cx="116460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683960" y="5899680"/>
                  <a:ext cx="132192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7" name=""/>
              <p:cNvGrpSpPr/>
              <p:nvPr/>
            </p:nvGrpSpPr>
            <p:grpSpPr>
              <a:xfrm>
                <a:off x="6006240" y="5899680"/>
                <a:ext cx="1506600" cy="335160"/>
                <a:chOff x="6006240" y="5899680"/>
                <a:chExt cx="1506600" cy="33516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6084720" y="5899680"/>
                  <a:ext cx="1349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6006240" y="5899680"/>
                  <a:ext cx="1506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0" name=""/>
              <p:cNvGrpSpPr/>
              <p:nvPr/>
            </p:nvGrpSpPr>
            <p:grpSpPr>
              <a:xfrm>
                <a:off x="7513200" y="5899680"/>
                <a:ext cx="1299600" cy="335160"/>
                <a:chOff x="7513200" y="5899680"/>
                <a:chExt cx="1299600" cy="335160"/>
              </a:xfrm>
            </p:grpSpPr>
            <p:sp>
              <p:nvSpPr>
                <p:cNvPr id="881" name=""/>
                <p:cNvSpPr/>
                <p:nvPr/>
              </p:nvSpPr>
              <p:spPr>
                <a:xfrm>
                  <a:off x="7591320" y="5899680"/>
                  <a:ext cx="114228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t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7513200" y="5899680"/>
                  <a:ext cx="1299600" cy="33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3" name=""/>
            <p:cNvSpPr/>
            <p:nvPr/>
          </p:nvSpPr>
          <p:spPr>
            <a:xfrm>
              <a:off x="0" y="4221000"/>
              <a:ext cx="8819640" cy="2016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4" name=""/>
          <p:cNvSpPr/>
          <p:nvPr/>
        </p:nvSpPr>
        <p:spPr>
          <a:xfrm>
            <a:off x="3240" y="86313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3240" y="925992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50920" y="609300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[1]</a:t>
            </a:r>
            <a:r>
              <a:rPr b="0" lang="el-G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ξαιρούνται και σχηματίζουν σε -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</a:t>
            </a:r>
            <a:r>
              <a:rPr b="0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τη γενική πληθυντικού τα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des</a:t>
            </a:r>
            <a:r>
              <a:rPr b="0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uvenis</a:t>
            </a:r>
            <a:r>
              <a:rPr b="0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is</a:t>
            </a:r>
            <a:r>
              <a:rPr b="0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nex</a:t>
            </a:r>
            <a:r>
              <a:rPr b="0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</a:t>
            </a:r>
            <a:r>
              <a:rPr b="0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er</a:t>
            </a:r>
            <a:r>
              <a:rPr b="0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ter</a:t>
            </a:r>
            <a:r>
              <a:rPr b="0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53B2-EF7C-4615-A366-944A184EB1A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"/>
          <p:cNvSpPr/>
          <p:nvPr/>
        </p:nvSpPr>
        <p:spPr>
          <a:xfrm>
            <a:off x="228600" y="1066680"/>
            <a:ext cx="91440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l-GR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Λήγουν σε </a:t>
            </a:r>
            <a:r>
              <a:rPr b="1" i="1" lang="el-GR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e,</a:t>
            </a:r>
            <a:r>
              <a:rPr b="1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al,</a:t>
            </a:r>
            <a:r>
              <a:rPr b="1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l-GR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a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l-GR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χηματίζουν αφαιρ. ενικού σε </a:t>
            </a:r>
            <a:r>
              <a:rPr b="1" i="1" lang="el-GR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ι</a:t>
            </a:r>
            <a:r>
              <a:rPr b="0" lang="el-GR" sz="15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[1]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γεν. πληθ. </a:t>
            </a:r>
            <a:r>
              <a:rPr b="1" i="1" lang="el-GR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ium</a:t>
            </a:r>
            <a:r>
              <a:rPr b="0" i="1" lang="el-GR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και ον., αιτ., κλητ. πληθ. των ουδ. </a:t>
            </a:r>
            <a:r>
              <a:rPr b="1" i="1" lang="el-GR" sz="1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ια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Υ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όδειγμα κλίσης: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el-GR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981080" y="762120"/>
            <a:ext cx="3565800" cy="27468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99ccff"/>
              </a:gs>
            </a:gsLst>
            <a:lin ang="5400000"/>
          </a:gradFill>
          <a:ln w="9360">
            <a:solidFill>
              <a:srgbClr val="3366ff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ΦΩΝΗΕΝΤΟΛΗΚΤΑ ΟΥΔΕΤΕΡΑ </a:t>
            </a:r>
            <a:r>
              <a:rPr b="1" i="1" lang="el-GR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ΟΥΣΙΑΣΤΙΚΑ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240" y="-51264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179280" y="2565360"/>
            <a:ext cx="8610480" cy="2971800"/>
            <a:chOff x="179280" y="2565360"/>
            <a:chExt cx="8610480" cy="2971800"/>
          </a:xfrm>
        </p:grpSpPr>
        <p:grpSp>
          <p:nvGrpSpPr>
            <p:cNvPr id="891" name=""/>
            <p:cNvGrpSpPr/>
            <p:nvPr/>
          </p:nvGrpSpPr>
          <p:grpSpPr>
            <a:xfrm>
              <a:off x="184320" y="2568600"/>
              <a:ext cx="8599320" cy="2964600"/>
              <a:chOff x="184320" y="2568600"/>
              <a:chExt cx="8599320" cy="2964600"/>
            </a:xfrm>
          </p:grpSpPr>
          <p:grpSp>
            <p:nvGrpSpPr>
              <p:cNvPr id="892" name=""/>
              <p:cNvGrpSpPr/>
              <p:nvPr/>
            </p:nvGrpSpPr>
            <p:grpSpPr>
              <a:xfrm>
                <a:off x="184320" y="2568600"/>
                <a:ext cx="536040" cy="493920"/>
                <a:chOff x="184320" y="2568600"/>
                <a:chExt cx="536040" cy="493920"/>
              </a:xfrm>
            </p:grpSpPr>
            <p:sp>
              <p:nvSpPr>
                <p:cNvPr id="893" name=""/>
                <p:cNvSpPr/>
                <p:nvPr/>
              </p:nvSpPr>
              <p:spPr>
                <a:xfrm>
                  <a:off x="261000" y="2568600"/>
                  <a:ext cx="38196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No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184320" y="2568600"/>
                  <a:ext cx="5360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720720" y="2568600"/>
                <a:ext cx="1269000" cy="493920"/>
                <a:chOff x="720720" y="2568600"/>
                <a:chExt cx="1269000" cy="49392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797400" y="2568600"/>
                  <a:ext cx="111492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720720" y="256860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8" name=""/>
              <p:cNvGrpSpPr/>
              <p:nvPr/>
            </p:nvGrpSpPr>
            <p:grpSpPr>
              <a:xfrm>
                <a:off x="1990080" y="2568600"/>
                <a:ext cx="1290240" cy="493920"/>
                <a:chOff x="1990080" y="2568600"/>
                <a:chExt cx="1290240" cy="493920"/>
              </a:xfrm>
            </p:grpSpPr>
            <p:sp>
              <p:nvSpPr>
                <p:cNvPr id="899" name=""/>
                <p:cNvSpPr/>
                <p:nvPr/>
              </p:nvSpPr>
              <p:spPr>
                <a:xfrm>
                  <a:off x="2066400" y="256860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1990080" y="256860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1" name=""/>
              <p:cNvGrpSpPr/>
              <p:nvPr/>
            </p:nvGrpSpPr>
            <p:grpSpPr>
              <a:xfrm>
                <a:off x="3281040" y="2568600"/>
                <a:ext cx="1470960" cy="493920"/>
                <a:chOff x="3281040" y="2568600"/>
                <a:chExt cx="1470960" cy="493920"/>
              </a:xfrm>
            </p:grpSpPr>
            <p:sp>
              <p:nvSpPr>
                <p:cNvPr id="902" name=""/>
                <p:cNvSpPr/>
                <p:nvPr/>
              </p:nvSpPr>
              <p:spPr>
                <a:xfrm>
                  <a:off x="3357360" y="256860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3" name=""/>
                <p:cNvSpPr/>
                <p:nvPr/>
              </p:nvSpPr>
              <p:spPr>
                <a:xfrm>
                  <a:off x="3281040" y="256860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" name=""/>
              <p:cNvGrpSpPr/>
              <p:nvPr/>
            </p:nvGrpSpPr>
            <p:grpSpPr>
              <a:xfrm>
                <a:off x="4752360" y="2568600"/>
                <a:ext cx="1290240" cy="493920"/>
                <a:chOff x="4752360" y="2568600"/>
                <a:chExt cx="1290240" cy="493920"/>
              </a:xfrm>
            </p:grpSpPr>
            <p:sp>
              <p:nvSpPr>
                <p:cNvPr id="905" name=""/>
                <p:cNvSpPr/>
                <p:nvPr/>
              </p:nvSpPr>
              <p:spPr>
                <a:xfrm>
                  <a:off x="4828680" y="256860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4752360" y="256860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7" name=""/>
              <p:cNvGrpSpPr/>
              <p:nvPr/>
            </p:nvGrpSpPr>
            <p:grpSpPr>
              <a:xfrm>
                <a:off x="6043320" y="2568600"/>
                <a:ext cx="1470960" cy="493920"/>
                <a:chOff x="6043320" y="2568600"/>
                <a:chExt cx="1470960" cy="493920"/>
              </a:xfrm>
            </p:grpSpPr>
            <p:sp>
              <p:nvSpPr>
                <p:cNvPr id="908" name=""/>
                <p:cNvSpPr/>
                <p:nvPr/>
              </p:nvSpPr>
              <p:spPr>
                <a:xfrm>
                  <a:off x="6119640" y="256860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>
                  <a:off x="6043320" y="256860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0" name=""/>
              <p:cNvGrpSpPr/>
              <p:nvPr/>
            </p:nvGrpSpPr>
            <p:grpSpPr>
              <a:xfrm>
                <a:off x="7514640" y="2568600"/>
                <a:ext cx="1269000" cy="493920"/>
                <a:chOff x="7514640" y="2568600"/>
                <a:chExt cx="1269000" cy="49392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7590960" y="2568600"/>
                  <a:ext cx="111564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7514640" y="256860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3" name=""/>
              <p:cNvGrpSpPr/>
              <p:nvPr/>
            </p:nvGrpSpPr>
            <p:grpSpPr>
              <a:xfrm>
                <a:off x="184320" y="3062520"/>
                <a:ext cx="536040" cy="493920"/>
                <a:chOff x="184320" y="3062520"/>
                <a:chExt cx="536040" cy="493920"/>
              </a:xfrm>
            </p:grpSpPr>
            <p:sp>
              <p:nvSpPr>
                <p:cNvPr id="914" name=""/>
                <p:cNvSpPr/>
                <p:nvPr/>
              </p:nvSpPr>
              <p:spPr>
                <a:xfrm>
                  <a:off x="261000" y="3062520"/>
                  <a:ext cx="38196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Gen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84320" y="3062520"/>
                  <a:ext cx="5360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720720" y="3062520"/>
                <a:ext cx="1269000" cy="493920"/>
                <a:chOff x="720720" y="3062520"/>
                <a:chExt cx="1269000" cy="49392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797400" y="3062520"/>
                  <a:ext cx="111492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720720" y="306252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9" name=""/>
              <p:cNvGrpSpPr/>
              <p:nvPr/>
            </p:nvGrpSpPr>
            <p:grpSpPr>
              <a:xfrm>
                <a:off x="1990080" y="3062520"/>
                <a:ext cx="1290240" cy="493920"/>
                <a:chOff x="1990080" y="3062520"/>
                <a:chExt cx="1290240" cy="493920"/>
              </a:xfrm>
            </p:grpSpPr>
            <p:sp>
              <p:nvSpPr>
                <p:cNvPr id="920" name=""/>
                <p:cNvSpPr/>
                <p:nvPr/>
              </p:nvSpPr>
              <p:spPr>
                <a:xfrm>
                  <a:off x="2066400" y="306252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990080" y="306252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2" name=""/>
              <p:cNvGrpSpPr/>
              <p:nvPr/>
            </p:nvGrpSpPr>
            <p:grpSpPr>
              <a:xfrm>
                <a:off x="3281040" y="3062520"/>
                <a:ext cx="1470960" cy="493920"/>
                <a:chOff x="3281040" y="3062520"/>
                <a:chExt cx="1470960" cy="493920"/>
              </a:xfrm>
            </p:grpSpPr>
            <p:sp>
              <p:nvSpPr>
                <p:cNvPr id="923" name=""/>
                <p:cNvSpPr/>
                <p:nvPr/>
              </p:nvSpPr>
              <p:spPr>
                <a:xfrm>
                  <a:off x="3357360" y="306252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ali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3281040" y="306252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5" name=""/>
              <p:cNvGrpSpPr/>
              <p:nvPr/>
            </p:nvGrpSpPr>
            <p:grpSpPr>
              <a:xfrm>
                <a:off x="4752360" y="3062520"/>
                <a:ext cx="1290240" cy="493920"/>
                <a:chOff x="4752360" y="3062520"/>
                <a:chExt cx="1290240" cy="493920"/>
              </a:xfrm>
            </p:grpSpPr>
            <p:sp>
              <p:nvSpPr>
                <p:cNvPr id="926" name=""/>
                <p:cNvSpPr/>
                <p:nvPr/>
              </p:nvSpPr>
              <p:spPr>
                <a:xfrm>
                  <a:off x="4828680" y="306252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4752360" y="306252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8" name=""/>
              <p:cNvGrpSpPr/>
              <p:nvPr/>
            </p:nvGrpSpPr>
            <p:grpSpPr>
              <a:xfrm>
                <a:off x="6043320" y="3062520"/>
                <a:ext cx="1470960" cy="493920"/>
                <a:chOff x="6043320" y="3062520"/>
                <a:chExt cx="1470960" cy="4939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6119640" y="306252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6043320" y="306252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7514640" y="3062520"/>
                <a:ext cx="1269000" cy="493920"/>
                <a:chOff x="7514640" y="3062520"/>
                <a:chExt cx="1269000" cy="493920"/>
              </a:xfrm>
            </p:grpSpPr>
            <p:sp>
              <p:nvSpPr>
                <p:cNvPr id="932" name=""/>
                <p:cNvSpPr/>
                <p:nvPr/>
              </p:nvSpPr>
              <p:spPr>
                <a:xfrm>
                  <a:off x="7590960" y="3062520"/>
                  <a:ext cx="111564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7514640" y="306252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4" name=""/>
              <p:cNvGrpSpPr/>
              <p:nvPr/>
            </p:nvGrpSpPr>
            <p:grpSpPr>
              <a:xfrm>
                <a:off x="184320" y="3556800"/>
                <a:ext cx="536040" cy="493920"/>
                <a:chOff x="184320" y="3556800"/>
                <a:chExt cx="536040" cy="493920"/>
              </a:xfrm>
            </p:grpSpPr>
            <p:sp>
              <p:nvSpPr>
                <p:cNvPr id="935" name=""/>
                <p:cNvSpPr/>
                <p:nvPr/>
              </p:nvSpPr>
              <p:spPr>
                <a:xfrm>
                  <a:off x="261000" y="3556800"/>
                  <a:ext cx="38196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Dat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184320" y="3556800"/>
                  <a:ext cx="5360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7" name=""/>
              <p:cNvGrpSpPr/>
              <p:nvPr/>
            </p:nvGrpSpPr>
            <p:grpSpPr>
              <a:xfrm>
                <a:off x="720720" y="3556800"/>
                <a:ext cx="1269000" cy="493920"/>
                <a:chOff x="720720" y="3556800"/>
                <a:chExt cx="1269000" cy="493920"/>
              </a:xfrm>
            </p:grpSpPr>
            <p:sp>
              <p:nvSpPr>
                <p:cNvPr id="938" name=""/>
                <p:cNvSpPr/>
                <p:nvPr/>
              </p:nvSpPr>
              <p:spPr>
                <a:xfrm>
                  <a:off x="797400" y="3556800"/>
                  <a:ext cx="111492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720720" y="355680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0" name=""/>
              <p:cNvGrpSpPr/>
              <p:nvPr/>
            </p:nvGrpSpPr>
            <p:grpSpPr>
              <a:xfrm>
                <a:off x="1990080" y="3556800"/>
                <a:ext cx="1290240" cy="493920"/>
                <a:chOff x="1990080" y="3556800"/>
                <a:chExt cx="1290240" cy="493920"/>
              </a:xfrm>
            </p:grpSpPr>
            <p:sp>
              <p:nvSpPr>
                <p:cNvPr id="941" name=""/>
                <p:cNvSpPr/>
                <p:nvPr/>
              </p:nvSpPr>
              <p:spPr>
                <a:xfrm>
                  <a:off x="2066400" y="355680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1990080" y="355680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3" name=""/>
              <p:cNvGrpSpPr/>
              <p:nvPr/>
            </p:nvGrpSpPr>
            <p:grpSpPr>
              <a:xfrm>
                <a:off x="3281040" y="3556800"/>
                <a:ext cx="1470960" cy="493920"/>
                <a:chOff x="3281040" y="3556800"/>
                <a:chExt cx="1470960" cy="493920"/>
              </a:xfrm>
            </p:grpSpPr>
            <p:sp>
              <p:nvSpPr>
                <p:cNvPr id="944" name=""/>
                <p:cNvSpPr/>
                <p:nvPr/>
              </p:nvSpPr>
              <p:spPr>
                <a:xfrm>
                  <a:off x="3357360" y="355680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3281040" y="355680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6" name=""/>
              <p:cNvGrpSpPr/>
              <p:nvPr/>
            </p:nvGrpSpPr>
            <p:grpSpPr>
              <a:xfrm>
                <a:off x="4752360" y="3556800"/>
                <a:ext cx="1290240" cy="493920"/>
                <a:chOff x="4752360" y="3556800"/>
                <a:chExt cx="1290240" cy="493920"/>
              </a:xfrm>
            </p:grpSpPr>
            <p:sp>
              <p:nvSpPr>
                <p:cNvPr id="947" name=""/>
                <p:cNvSpPr/>
                <p:nvPr/>
              </p:nvSpPr>
              <p:spPr>
                <a:xfrm>
                  <a:off x="4828680" y="355680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4752360" y="355680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9" name=""/>
              <p:cNvGrpSpPr/>
              <p:nvPr/>
            </p:nvGrpSpPr>
            <p:grpSpPr>
              <a:xfrm>
                <a:off x="6043320" y="3556800"/>
                <a:ext cx="1470960" cy="493920"/>
                <a:chOff x="6043320" y="3556800"/>
                <a:chExt cx="1470960" cy="49392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6119640" y="355680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6043320" y="355680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7514640" y="3556800"/>
                <a:ext cx="1269000" cy="493920"/>
                <a:chOff x="7514640" y="3556800"/>
                <a:chExt cx="1269000" cy="49392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7590960" y="3556800"/>
                  <a:ext cx="111564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7514640" y="355680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5" name=""/>
              <p:cNvGrpSpPr/>
              <p:nvPr/>
            </p:nvGrpSpPr>
            <p:grpSpPr>
              <a:xfrm>
                <a:off x="184320" y="4051080"/>
                <a:ext cx="536040" cy="493920"/>
                <a:chOff x="184320" y="4051080"/>
                <a:chExt cx="536040" cy="493920"/>
              </a:xfrm>
            </p:grpSpPr>
            <p:sp>
              <p:nvSpPr>
                <p:cNvPr id="956" name=""/>
                <p:cNvSpPr/>
                <p:nvPr/>
              </p:nvSpPr>
              <p:spPr>
                <a:xfrm>
                  <a:off x="261000" y="4051080"/>
                  <a:ext cx="38196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c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184320" y="4051080"/>
                  <a:ext cx="5360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8" name=""/>
              <p:cNvGrpSpPr/>
              <p:nvPr/>
            </p:nvGrpSpPr>
            <p:grpSpPr>
              <a:xfrm>
                <a:off x="720720" y="4051080"/>
                <a:ext cx="1269000" cy="493920"/>
                <a:chOff x="720720" y="4051080"/>
                <a:chExt cx="1269000" cy="49392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797400" y="4051080"/>
                  <a:ext cx="111492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720720" y="405108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1" name=""/>
              <p:cNvGrpSpPr/>
              <p:nvPr/>
            </p:nvGrpSpPr>
            <p:grpSpPr>
              <a:xfrm>
                <a:off x="1990080" y="4051080"/>
                <a:ext cx="1290240" cy="493920"/>
                <a:chOff x="1990080" y="4051080"/>
                <a:chExt cx="1290240" cy="493920"/>
              </a:xfrm>
            </p:grpSpPr>
            <p:sp>
              <p:nvSpPr>
                <p:cNvPr id="962" name=""/>
                <p:cNvSpPr/>
                <p:nvPr/>
              </p:nvSpPr>
              <p:spPr>
                <a:xfrm>
                  <a:off x="2066400" y="405108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1990080" y="405108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4" name=""/>
              <p:cNvGrpSpPr/>
              <p:nvPr/>
            </p:nvGrpSpPr>
            <p:grpSpPr>
              <a:xfrm>
                <a:off x="3281040" y="4051080"/>
                <a:ext cx="1470960" cy="493920"/>
                <a:chOff x="3281040" y="4051080"/>
                <a:chExt cx="1470960" cy="493920"/>
              </a:xfrm>
            </p:grpSpPr>
            <p:sp>
              <p:nvSpPr>
                <p:cNvPr id="965" name=""/>
                <p:cNvSpPr/>
                <p:nvPr/>
              </p:nvSpPr>
              <p:spPr>
                <a:xfrm>
                  <a:off x="3357360" y="405108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6" name=""/>
                <p:cNvSpPr/>
                <p:nvPr/>
              </p:nvSpPr>
              <p:spPr>
                <a:xfrm>
                  <a:off x="3281040" y="405108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7" name=""/>
              <p:cNvGrpSpPr/>
              <p:nvPr/>
            </p:nvGrpSpPr>
            <p:grpSpPr>
              <a:xfrm>
                <a:off x="4752360" y="4051080"/>
                <a:ext cx="1290240" cy="493920"/>
                <a:chOff x="4752360" y="4051080"/>
                <a:chExt cx="1290240" cy="493920"/>
              </a:xfrm>
            </p:grpSpPr>
            <p:sp>
              <p:nvSpPr>
                <p:cNvPr id="968" name=""/>
                <p:cNvSpPr/>
                <p:nvPr/>
              </p:nvSpPr>
              <p:spPr>
                <a:xfrm>
                  <a:off x="4828680" y="405108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4752360" y="405108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0" name=""/>
              <p:cNvGrpSpPr/>
              <p:nvPr/>
            </p:nvGrpSpPr>
            <p:grpSpPr>
              <a:xfrm>
                <a:off x="6043320" y="4051080"/>
                <a:ext cx="1470960" cy="493920"/>
                <a:chOff x="6043320" y="4051080"/>
                <a:chExt cx="1470960" cy="49392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6119640" y="405108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6043320" y="405108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7514640" y="4051080"/>
                <a:ext cx="1269000" cy="493920"/>
                <a:chOff x="7514640" y="4051080"/>
                <a:chExt cx="1269000" cy="49392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7590960" y="4051080"/>
                  <a:ext cx="111564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7514640" y="405108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6" name=""/>
              <p:cNvGrpSpPr/>
              <p:nvPr/>
            </p:nvGrpSpPr>
            <p:grpSpPr>
              <a:xfrm>
                <a:off x="184320" y="4545360"/>
                <a:ext cx="536040" cy="493920"/>
                <a:chOff x="184320" y="4545360"/>
                <a:chExt cx="536040" cy="493920"/>
              </a:xfrm>
            </p:grpSpPr>
            <p:sp>
              <p:nvSpPr>
                <p:cNvPr id="977" name=""/>
                <p:cNvSpPr/>
                <p:nvPr/>
              </p:nvSpPr>
              <p:spPr>
                <a:xfrm>
                  <a:off x="261000" y="4545360"/>
                  <a:ext cx="38196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Voc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184320" y="4545360"/>
                  <a:ext cx="5360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9" name=""/>
              <p:cNvGrpSpPr/>
              <p:nvPr/>
            </p:nvGrpSpPr>
            <p:grpSpPr>
              <a:xfrm>
                <a:off x="720720" y="4545360"/>
                <a:ext cx="1269000" cy="493920"/>
                <a:chOff x="720720" y="4545360"/>
                <a:chExt cx="1269000" cy="493920"/>
              </a:xfrm>
            </p:grpSpPr>
            <p:sp>
              <p:nvSpPr>
                <p:cNvPr id="980" name=""/>
                <p:cNvSpPr/>
                <p:nvPr/>
              </p:nvSpPr>
              <p:spPr>
                <a:xfrm>
                  <a:off x="797400" y="4545360"/>
                  <a:ext cx="111492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1" name=""/>
                <p:cNvSpPr/>
                <p:nvPr/>
              </p:nvSpPr>
              <p:spPr>
                <a:xfrm>
                  <a:off x="720720" y="454536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2" name=""/>
              <p:cNvGrpSpPr/>
              <p:nvPr/>
            </p:nvGrpSpPr>
            <p:grpSpPr>
              <a:xfrm>
                <a:off x="1990080" y="4545360"/>
                <a:ext cx="1290240" cy="493920"/>
                <a:chOff x="1990080" y="4545360"/>
                <a:chExt cx="1290240" cy="493920"/>
              </a:xfrm>
            </p:grpSpPr>
            <p:sp>
              <p:nvSpPr>
                <p:cNvPr id="983" name=""/>
                <p:cNvSpPr/>
                <p:nvPr/>
              </p:nvSpPr>
              <p:spPr>
                <a:xfrm>
                  <a:off x="2066400" y="454536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1990080" y="454536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5" name=""/>
              <p:cNvGrpSpPr/>
              <p:nvPr/>
            </p:nvGrpSpPr>
            <p:grpSpPr>
              <a:xfrm>
                <a:off x="3281040" y="4545360"/>
                <a:ext cx="1470960" cy="493920"/>
                <a:chOff x="3281040" y="4545360"/>
                <a:chExt cx="1470960" cy="493920"/>
              </a:xfrm>
            </p:grpSpPr>
            <p:sp>
              <p:nvSpPr>
                <p:cNvPr id="986" name=""/>
                <p:cNvSpPr/>
                <p:nvPr/>
              </p:nvSpPr>
              <p:spPr>
                <a:xfrm>
                  <a:off x="3357360" y="454536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3281040" y="454536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8" name=""/>
              <p:cNvGrpSpPr/>
              <p:nvPr/>
            </p:nvGrpSpPr>
            <p:grpSpPr>
              <a:xfrm>
                <a:off x="4752360" y="4545360"/>
                <a:ext cx="1290240" cy="493920"/>
                <a:chOff x="4752360" y="4545360"/>
                <a:chExt cx="1290240" cy="493920"/>
              </a:xfrm>
            </p:grpSpPr>
            <p:sp>
              <p:nvSpPr>
                <p:cNvPr id="989" name=""/>
                <p:cNvSpPr/>
                <p:nvPr/>
              </p:nvSpPr>
              <p:spPr>
                <a:xfrm>
                  <a:off x="4828680" y="454536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4752360" y="454536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1" name=""/>
              <p:cNvGrpSpPr/>
              <p:nvPr/>
            </p:nvGrpSpPr>
            <p:grpSpPr>
              <a:xfrm>
                <a:off x="6043320" y="4545360"/>
                <a:ext cx="1470960" cy="493920"/>
                <a:chOff x="6043320" y="4545360"/>
                <a:chExt cx="1470960" cy="49392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6119640" y="454536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6043320" y="454536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7514640" y="4545360"/>
                <a:ext cx="1269000" cy="493920"/>
                <a:chOff x="7514640" y="4545360"/>
                <a:chExt cx="1269000" cy="49392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7590960" y="4545360"/>
                  <a:ext cx="111564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7514640" y="454536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7" name=""/>
              <p:cNvGrpSpPr/>
              <p:nvPr/>
            </p:nvGrpSpPr>
            <p:grpSpPr>
              <a:xfrm>
                <a:off x="184320" y="5039280"/>
                <a:ext cx="536040" cy="493920"/>
                <a:chOff x="184320" y="5039280"/>
                <a:chExt cx="536040" cy="493920"/>
              </a:xfrm>
            </p:grpSpPr>
            <p:sp>
              <p:nvSpPr>
                <p:cNvPr id="998" name=""/>
                <p:cNvSpPr/>
                <p:nvPr/>
              </p:nvSpPr>
              <p:spPr>
                <a:xfrm>
                  <a:off x="261000" y="5039280"/>
                  <a:ext cx="38196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000000"/>
                      </a:solidFill>
                      <a:latin typeface="Garamond"/>
                      <a:ea typeface="Times New Roman"/>
                    </a:rPr>
                    <a:t>Abl.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184320" y="5039280"/>
                  <a:ext cx="5360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0" name=""/>
              <p:cNvGrpSpPr/>
              <p:nvPr/>
            </p:nvGrpSpPr>
            <p:grpSpPr>
              <a:xfrm>
                <a:off x="720720" y="5039280"/>
                <a:ext cx="1269000" cy="493920"/>
                <a:chOff x="720720" y="5039280"/>
                <a:chExt cx="1269000" cy="49392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797400" y="5039280"/>
                  <a:ext cx="111492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720720" y="503928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3" name=""/>
              <p:cNvGrpSpPr/>
              <p:nvPr/>
            </p:nvGrpSpPr>
            <p:grpSpPr>
              <a:xfrm>
                <a:off x="1990080" y="5039280"/>
                <a:ext cx="1290240" cy="493920"/>
                <a:chOff x="1990080" y="5039280"/>
                <a:chExt cx="1290240" cy="493920"/>
              </a:xfrm>
            </p:grpSpPr>
            <p:sp>
              <p:nvSpPr>
                <p:cNvPr id="1004" name=""/>
                <p:cNvSpPr/>
                <p:nvPr/>
              </p:nvSpPr>
              <p:spPr>
                <a:xfrm>
                  <a:off x="2066400" y="503928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990080" y="503928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6" name=""/>
              <p:cNvGrpSpPr/>
              <p:nvPr/>
            </p:nvGrpSpPr>
            <p:grpSpPr>
              <a:xfrm>
                <a:off x="3281040" y="5039280"/>
                <a:ext cx="1470960" cy="493920"/>
                <a:chOff x="3281040" y="5039280"/>
                <a:chExt cx="1470960" cy="493920"/>
              </a:xfrm>
            </p:grpSpPr>
            <p:sp>
              <p:nvSpPr>
                <p:cNvPr id="1007" name=""/>
                <p:cNvSpPr/>
                <p:nvPr/>
              </p:nvSpPr>
              <p:spPr>
                <a:xfrm>
                  <a:off x="3357360" y="503928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3281040" y="503928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9" name=""/>
              <p:cNvGrpSpPr/>
              <p:nvPr/>
            </p:nvGrpSpPr>
            <p:grpSpPr>
              <a:xfrm>
                <a:off x="4752360" y="5039280"/>
                <a:ext cx="1290240" cy="493920"/>
                <a:chOff x="4752360" y="5039280"/>
                <a:chExt cx="1290240" cy="49392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4828680" y="5039280"/>
                  <a:ext cx="113688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ni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752360" y="5039280"/>
                  <a:ext cx="129024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2" name=""/>
              <p:cNvGrpSpPr/>
              <p:nvPr/>
            </p:nvGrpSpPr>
            <p:grpSpPr>
              <a:xfrm>
                <a:off x="6043320" y="5039280"/>
                <a:ext cx="1470960" cy="493920"/>
                <a:chOff x="6043320" y="5039280"/>
                <a:chExt cx="1470960" cy="49392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6119640" y="5039280"/>
                  <a:ext cx="131760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6043320" y="5039280"/>
                  <a:ext cx="147096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5" name=""/>
              <p:cNvGrpSpPr/>
              <p:nvPr/>
            </p:nvGrpSpPr>
            <p:grpSpPr>
              <a:xfrm>
                <a:off x="7514640" y="5039280"/>
                <a:ext cx="1269000" cy="493920"/>
                <a:chOff x="7514640" y="5039280"/>
                <a:chExt cx="1269000" cy="493920"/>
              </a:xfrm>
            </p:grpSpPr>
            <p:sp>
              <p:nvSpPr>
                <p:cNvPr id="1016" name=""/>
                <p:cNvSpPr/>
                <p:nvPr/>
              </p:nvSpPr>
              <p:spPr>
                <a:xfrm>
                  <a:off x="7590960" y="5039280"/>
                  <a:ext cx="1115640" cy="49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7514640" y="5039280"/>
                  <a:ext cx="1269000" cy="493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18" name=""/>
            <p:cNvSpPr/>
            <p:nvPr/>
          </p:nvSpPr>
          <p:spPr>
            <a:xfrm>
              <a:off x="179280" y="2565360"/>
              <a:ext cx="8610480" cy="29718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9" name=""/>
          <p:cNvSpPr/>
          <p:nvPr/>
        </p:nvSpPr>
        <p:spPr>
          <a:xfrm>
            <a:off x="3240" y="611496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0" y="5791320"/>
            <a:ext cx="9144000" cy="15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04920" y="5734080"/>
            <a:ext cx="883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2" action="ppaction://hlinksldjump"/>
              </a:rPr>
              <a:t>[1]</a:t>
            </a:r>
            <a:r>
              <a:rPr b="0" lang="el-G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Το ουσιαστικό</a:t>
            </a:r>
            <a:r>
              <a:rPr b="1" lang="el-GR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ete</a:t>
            </a:r>
            <a:r>
              <a:rPr b="0" lang="el-G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στην αφαιρετική κάνει συνήθως σε </a:t>
            </a:r>
            <a:r>
              <a:rPr b="1" lang="el-GR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-</a:t>
            </a: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70A0-2E06-4889-98F4-E60329DF3F88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2" name=""/>
          <p:cNvGraphicFramePr/>
          <p:nvPr/>
        </p:nvGraphicFramePr>
        <p:xfrm>
          <a:off x="611280" y="333360"/>
          <a:ext cx="8001000" cy="5181480"/>
        </p:xfrm>
        <a:graphic>
          <a:graphicData uri="http://schemas.openxmlformats.org/drawingml/2006/table">
            <a:tbl>
              <a:tblPr/>
              <a:tblGrid>
                <a:gridCol w="1987560"/>
                <a:gridCol w="60134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2ο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c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cc4"/>
                    </a:solidFill>
                  </a:tcPr>
                </a:tc>
              </a:tr>
              <a:tr h="456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Διδασκαλία εμπέδωση 3ης κλίση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ιστρέφουμε στ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κα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πό όπου επιλέγουμ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3" name=""/>
          <p:cNvGrpSpPr/>
          <p:nvPr/>
        </p:nvGrpSpPr>
        <p:grpSpPr>
          <a:xfrm>
            <a:off x="3995640" y="1557360"/>
            <a:ext cx="2646360" cy="650880"/>
            <a:chOff x="3995640" y="1557360"/>
            <a:chExt cx="2646360" cy="650880"/>
          </a:xfrm>
        </p:grpSpPr>
        <p:pic>
          <p:nvPicPr>
            <p:cNvPr id="1024" name="" descr="Latin Teaching Materials at Saint Louis University"/>
            <p:cNvPicPr/>
            <p:nvPr/>
          </p:nvPicPr>
          <p:blipFill>
            <a:blip r:embed="rId1"/>
            <a:stretch/>
          </p:blipFill>
          <p:spPr>
            <a:xfrm>
              <a:off x="3995640" y="1557360"/>
              <a:ext cx="2646360" cy="650880"/>
            </a:xfrm>
            <a:prstGeom prst="rect">
              <a:avLst/>
            </a:prstGeom>
            <a:ln w="6480">
              <a:solidFill>
                <a:srgbClr val="000000"/>
              </a:solidFill>
              <a:miter/>
            </a:ln>
          </p:spPr>
        </p:pic>
        <p:sp>
          <p:nvSpPr>
            <p:cNvPr id="1025" name=""/>
            <p:cNvSpPr/>
            <p:nvPr/>
          </p:nvSpPr>
          <p:spPr>
            <a:xfrm>
              <a:off x="4258440" y="1950120"/>
              <a:ext cx="2268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6" name=""/>
          <p:cNvSpPr/>
          <p:nvPr/>
        </p:nvSpPr>
        <p:spPr>
          <a:xfrm>
            <a:off x="4643280" y="2565360"/>
            <a:ext cx="207036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atinPraxi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227640" y="3500280"/>
            <a:ext cx="21592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Third Declension Endings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50D-38DD-4AB6-91C0-71958D55950A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0000"/>
                </a:solidFill>
                <a:uFillTx/>
                <a:latin typeface="Times New Roman"/>
              </a:rPr>
              <a:t>διαθεματικότης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238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Λατινικ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ρχαία Ελληνικ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γγλικά εμπέδωση λεξιλογίου επιπέδου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A3A-2AB8-41A7-A285-33EE3A3ED7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8" name=""/>
          <p:cNvGraphicFramePr/>
          <p:nvPr/>
        </p:nvGraphicFramePr>
        <p:xfrm>
          <a:off x="609480" y="914400"/>
          <a:ext cx="8001000" cy="5148360"/>
        </p:xfrm>
        <a:graphic>
          <a:graphicData uri="http://schemas.openxmlformats.org/drawingml/2006/table">
            <a:tbl>
              <a:tblPr/>
              <a:tblGrid>
                <a:gridCol w="1987560"/>
                <a:gridCol w="60134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2ο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c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ffcc4"/>
                    </a:solidFill>
                  </a:tcPr>
                </a:tc>
              </a:tr>
              <a:tr h="47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Διδασκαλία εμπέδωση 3ης κλίση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ροσέχουμε πάλι τις καταλήξεις των αρσενικών και θηλυκών ουσ. και τα παραδείγματα σε σχέση με την ερμηνεία στην αγγλική γλώσσα και μέσω των δεσμώ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μεταβαίνουμε στη σελίδα των καταλήξεων των ουδετέρων καθώς και στη σελίδα με τις ερμηνευτικές ασκήσεις από τα λατινικά στα ελληνικά και από τα αγγλικά στα λατινικά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9" name=""/>
          <p:cNvSpPr/>
          <p:nvPr/>
        </p:nvSpPr>
        <p:spPr>
          <a:xfrm>
            <a:off x="2987640" y="3284640"/>
            <a:ext cx="541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1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  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2u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 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2u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 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3mf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3n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P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   </a:t>
            </a:r>
            <a:r>
              <a:rPr b="1" lang="en-US" sz="2000" spc="-1" strike="noStrike">
                <a:solidFill>
                  <a:srgbClr val="ccccff"/>
                </a:solidFill>
                <a:latin typeface="Times New Roman"/>
              </a:rPr>
              <a:t>4mf  4n  P   5 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 flipH="1" flipV="1">
            <a:off x="5651640" y="364500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H="1" flipV="1">
            <a:off x="6011640" y="357336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6084720" y="3645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9B3D-5330-4ED2-B90F-0D43356863E1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3" name=""/>
          <p:cNvGraphicFramePr/>
          <p:nvPr/>
        </p:nvGraphicFramePr>
        <p:xfrm>
          <a:off x="609480" y="914400"/>
          <a:ext cx="8001000" cy="4602240"/>
        </p:xfrm>
        <a:graphic>
          <a:graphicData uri="http://schemas.openxmlformats.org/drawingml/2006/table">
            <a:tbl>
              <a:tblPr/>
              <a:tblGrid>
                <a:gridCol w="2362320"/>
                <a:gridCol w="56386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ι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ος-4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c77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c77b"/>
                    </a:solidFill>
                  </a:tcPr>
                </a:tc>
              </a:tr>
              <a:tr h="42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δελφική σχέση της λατινικής με την Α.Ε γλώσσ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μητρική σχέση   λατινικής με   αγγλική γλώσσ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Οι στόχοι εξυπηρετούνται κατά τη διάρκεια των ερμηνευτικών ασκήσεων επισημαίνονται από τους μαθητές με τη βοήθεια του διδάσκον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αραδείγματα σχέσης με ελλην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Παραδείγματα προέλευσης αγγλικών λέξεω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709-EF1A-4B47-8699-65514E84C45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4" name=""/>
          <p:cNvGraphicFramePr/>
          <p:nvPr/>
        </p:nvGraphicFramePr>
        <p:xfrm>
          <a:off x="609480" y="907920"/>
          <a:ext cx="8001000" cy="4405320"/>
        </p:xfrm>
        <a:graphic>
          <a:graphicData uri="http://schemas.openxmlformats.org/drawingml/2006/table">
            <a:tbl>
              <a:tblPr/>
              <a:tblGrid>
                <a:gridCol w="1600200"/>
                <a:gridCol w="6400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9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πόλυτα αριθμητικ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κλιτά - άκλι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Τα αριθμητικά, ενώ δε διδάσκονται συστηματικά, τα βρίσκουμε διαρκώς μπροστά μας στα κείμενα αλλά και στην αρίθμηση των μαθημάτων του σχολικού εγχειριδίου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Ιδανικό εποπτικό υλικό μας προσφέρει η ίδια διαδικτυακή διεύθυνση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πό όπου επιλέγουμ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35" name=""/>
          <p:cNvGrpSpPr/>
          <p:nvPr/>
        </p:nvGrpSpPr>
        <p:grpSpPr>
          <a:xfrm>
            <a:off x="5796000" y="3213000"/>
            <a:ext cx="1873080" cy="505080"/>
            <a:chOff x="5796000" y="3213000"/>
            <a:chExt cx="1873080" cy="505080"/>
          </a:xfrm>
        </p:grpSpPr>
        <p:pic>
          <p:nvPicPr>
            <p:cNvPr id="1036" name="" descr="Latin Teaching Materials at Saint Louis University"/>
            <p:cNvPicPr/>
            <p:nvPr/>
          </p:nvPicPr>
          <p:blipFill>
            <a:blip r:embed="rId1"/>
            <a:stretch/>
          </p:blipFill>
          <p:spPr>
            <a:xfrm>
              <a:off x="5796000" y="3213000"/>
              <a:ext cx="1873080" cy="5050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037" name="">
              <a:hlinkClick r:id="rId2"/>
            </p:cNvPr>
            <p:cNvSpPr/>
            <p:nvPr/>
          </p:nvSpPr>
          <p:spPr>
            <a:xfrm>
              <a:off x="5982120" y="3517920"/>
              <a:ext cx="1605240" cy="17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8" name=""/>
          <p:cNvSpPr/>
          <p:nvPr/>
        </p:nvSpPr>
        <p:spPr>
          <a:xfrm>
            <a:off x="5651640" y="4149720"/>
            <a:ext cx="2808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Rudimenta in Mo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2FC7-E0E7-464C-8A63-5E83AC02F4B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9" name=""/>
          <p:cNvGraphicFramePr/>
          <p:nvPr/>
        </p:nvGraphicFramePr>
        <p:xfrm>
          <a:off x="609480" y="907920"/>
          <a:ext cx="7923240" cy="5073840"/>
        </p:xfrm>
        <a:graphic>
          <a:graphicData uri="http://schemas.openxmlformats.org/drawingml/2006/table">
            <a:tbl>
              <a:tblPr/>
              <a:tblGrid>
                <a:gridCol w="1600200"/>
                <a:gridCol w="6323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464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πόλυτα αριθμητικά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κλιτά-άκλιτ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Διαδοχικά παρακολουθούμε την προβολή των  θεμάτων (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ash movies)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 mon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 gutta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–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em punc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Κατά την εκτέλεση των προγραμμάτων επισημαίνουμε τα κλιτά και άκλιτα αριθμητικά και τη συμφωνία τους κατά γένος και αριθμό με το ουσιαστικό που προσδιορίζουν. Αν χρειαστεί επαναλαμβάνουμε την προβολή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162-6E44-4807-B86D-A89C09503C0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0" name=""/>
          <p:cNvGraphicFramePr/>
          <p:nvPr/>
        </p:nvGraphicFramePr>
        <p:xfrm>
          <a:off x="611280" y="914400"/>
          <a:ext cx="8281800" cy="4916520"/>
        </p:xfrm>
        <a:graphic>
          <a:graphicData uri="http://schemas.openxmlformats.org/drawingml/2006/table">
            <a:tbl>
              <a:tblPr/>
              <a:tblGrid>
                <a:gridCol w="1600200"/>
                <a:gridCol w="668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</a:t>
                      </a:r>
                      <a:r>
                        <a:rPr b="1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>
                        <a:alpha val="95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>
                        <a:alpha val="95000"/>
                      </a:srgbClr>
                    </a:solidFill>
                  </a:tcPr>
                </a:tc>
              </a:tr>
              <a:tr h="449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υχάριστες αφηγήσεις για Αρχαίους Έλλην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Μετάφραση στα Αγγλικ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Το βήμα πραγματοποιείται από τον καθηγητή των αγγλικών σε συνεργασία με το φιλόλογ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Μεταβαίνουμε στη σελίδα με τη βοήθεια του υπερσυνδέσμου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Με σύντομες διευκρινίσεις από το φιλόλογο γίνεται κατανοητό το περιεχόμενο των αφηγημάτων 2, 10 και 14 και ζητείται η μεταφορά τους στην αγγλική (εδώ εργάζονται κατά ομάδες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Αναλαμβάνει ο καθηγητής της Αγγλικ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1" name=""/>
          <p:cNvSpPr/>
          <p:nvPr/>
        </p:nvSpPr>
        <p:spPr>
          <a:xfrm>
            <a:off x="4716360" y="2565360"/>
            <a:ext cx="403236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Anecdotes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of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 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Eminent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Persons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 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of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 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Antiq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from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 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the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 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Jacobs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-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Döring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 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20"/>
              </a:rPr>
              <a:t>Latin</a:t>
            </a:r>
            <a:r>
              <a:rPr b="0" lang="el-GR" sz="1600" spc="-1" strike="noStrike" u="sng">
                <a:solidFill>
                  <a:srgbClr val="ccccff"/>
                </a:solidFill>
                <a:uFillTx/>
                <a:latin typeface="Times New Roman"/>
                <a:hlinkClick r:id="rId21"/>
              </a:rPr>
              <a:t> Rea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1371-4FA4-4031-A99C-59797E52DEEF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0000"/>
                </a:solidFill>
                <a:uFillTx/>
                <a:latin typeface="Times New Roman"/>
              </a:rPr>
              <a:t>Μέσα που χρησιμοποιούντα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διαδίκτυο ή καλύτερα ένα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m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, στ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ίο έχουμε μεταφέρει τις αντίστοιχες σελίδες από το διαδίκτυ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βολέα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ύλλο ή καλύτερα φόρμες εργασίας για συμπλήρωση και εξάσκηση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σχολικό βιβλί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ολύβι, γόμα, ξύστρ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 ενδιαφέρον μαθητώ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E7CE-22AB-4DF4-A5C0-011702CE3DE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 u="sng">
                <a:solidFill>
                  <a:srgbClr val="000000"/>
                </a:solidFill>
                <a:uFillTx/>
                <a:latin typeface="Times New Roman"/>
              </a:rPr>
              <a:t>Διδακτικά αντικείμενα όπου δύναται να έχει εφαρμογή το σενάριο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Τα μαθήματα 6-7-8 του σχολικού εγχειριδίου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«ΛΑΤΙΝΙΚΑ ΛΥΚΕΙΟΥ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 (Β΄ μέρος – Παρατηρήσεις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Ασκήσεις λεξιλογίου στο μάθημα των Αγγλικών – τάξη Β΄ Λυκείο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Στη λεξιλογική επεξεργασία των κειμένων Αρχαίας Ελληνικής (συσχετισμός με λατινικές κοινής προέλευσης από την Ι.Ε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1636-8312-4FF2-896C-38BE569A2B3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0000"/>
                </a:solidFill>
                <a:uFillTx/>
                <a:latin typeface="Times New Roman"/>
              </a:rPr>
              <a:t>Στόχο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Να επαναλάβουν και να εμπεδώσουν οι μαθητές την πρώτη και δεύτερη κλίση των ουσιαστικών της λατινική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Να διδαχθούν την τρίτη κλίση των ουσιαστικών και να την κατακτήσουν με τη βοήθεια των φορμών διδασκαλίας &amp; ασκήσεω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Να εξακολουθήσουν να κατανοούν την αδελφική σχέση της λατινικής με την Α.Ε γλώσσ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Να συσχετίσουν το λεξιλόγιο της λατινικής με αντίστοιχες λέξεις της αγγλικής γλώσσα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6039-1499-42EA-843F-A4D74A15D6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0000"/>
                </a:solidFill>
                <a:uFillTx/>
                <a:latin typeface="Times New Roman"/>
              </a:rPr>
              <a:t>Στόχοι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84872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Να μάθουν τα απόλυτα αριθμητικά 1-10 και διακρίνουν τα κλιτά από τα άκλιτ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Times New Roman"/>
              </a:rPr>
              <a:t>Να μελετήσουν, κατά ομάδες, ανέκδοτα που αφορούν αρχαίους έλληνες διατυπωμένα στα λατινικά και να προσπαθήσουν να τα μεταφράσουν στην αγγλική γλώσσ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93800" y="4365720"/>
            <a:ext cx="347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η διαθεματικότης γάρ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4270-602D-4079-8A13-BBB563D9BF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 u="sng">
                <a:solidFill>
                  <a:srgbClr val="000000"/>
                </a:solidFill>
                <a:uFillTx/>
                <a:latin typeface="Times New Roman"/>
              </a:rPr>
              <a:t>Διαδικασί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4360" y="1413000"/>
          <a:ext cx="7416360" cy="4247640"/>
        </p:xfrm>
        <a:graphic>
          <a:graphicData uri="http://schemas.openxmlformats.org/drawingml/2006/table">
            <a:tbl>
              <a:tblPr/>
              <a:tblGrid>
                <a:gridCol w="1916280"/>
                <a:gridCol w="5500080"/>
              </a:tblGrid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1ο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</a:tr>
              <a:tr h="360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ανάληψη 1-2 κλίσ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Καθοδηγούμε τους   μαθητές να ανοίξουν τη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χετική σελίδα του Πανεπιστημίου του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int L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ο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is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ιλέγουμε τον υπερδεσμ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8" name=""/>
          <p:cNvGrpSpPr/>
          <p:nvPr/>
        </p:nvGrpSpPr>
        <p:grpSpPr>
          <a:xfrm>
            <a:off x="5219640" y="3357720"/>
            <a:ext cx="2016360" cy="507960"/>
            <a:chOff x="5219640" y="3357720"/>
            <a:chExt cx="2016360" cy="507960"/>
          </a:xfrm>
        </p:grpSpPr>
        <p:pic>
          <p:nvPicPr>
            <p:cNvPr id="59" name="" descr="Latin Teaching Materials at Saint Louis University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5219640" y="3357720"/>
              <a:ext cx="2016360" cy="5079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  <p:sp>
          <p:nvSpPr>
            <p:cNvPr id="60" name=""/>
            <p:cNvSpPr/>
            <p:nvPr/>
          </p:nvSpPr>
          <p:spPr>
            <a:xfrm>
              <a:off x="5419800" y="3664440"/>
              <a:ext cx="172800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>
            <a:hlinkClick r:id="rId3"/>
          </p:cNvPr>
          <p:cNvSpPr/>
          <p:nvPr/>
        </p:nvSpPr>
        <p:spPr>
          <a:xfrm>
            <a:off x="5219640" y="4869000"/>
            <a:ext cx="2070000" cy="520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LatinPraxis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F1B2-C44B-4D3A-B399-229A91FC813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684360" y="620640"/>
          <a:ext cx="8153280" cy="4876920"/>
        </p:xfrm>
        <a:graphic>
          <a:graphicData uri="http://schemas.openxmlformats.org/drawingml/2006/table">
            <a:tbl>
              <a:tblPr/>
              <a:tblGrid>
                <a:gridCol w="1967040"/>
                <a:gridCol w="61862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1ο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</a:tr>
              <a:tr h="42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ανάληψη 1-2 κλίση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Καθοδηγούμε τους  μαθητές να επιλέξουν από τον πίνακα των ενοτήτων τον υπερδεσμό που οδηγεί στη σελίδα με τις καταλήξεις της πρώτης κλίση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2" marL="1295280" indent="-380880">
                        <a:spcBef>
                          <a:spcPts val="60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ισημαίνουμε πολύ γρήγορα τα περιεχόμενα των τεσσάρων στηλών :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>
            <a:hlinkClick r:id="rId1"/>
          </p:cNvPr>
          <p:cNvSpPr/>
          <p:nvPr/>
        </p:nvSpPr>
        <p:spPr>
          <a:xfrm>
            <a:off x="3995640" y="285264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First Declension End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564F-6A49-4D11-999C-3218561E3E25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11280" y="476280"/>
          <a:ext cx="8153280" cy="5541840"/>
        </p:xfrm>
        <a:graphic>
          <a:graphicData uri="http://schemas.openxmlformats.org/drawingml/2006/table">
            <a:tbl>
              <a:tblPr/>
              <a:tblGrid>
                <a:gridCol w="1967040"/>
                <a:gridCol w="6186240"/>
              </a:tblGrid>
              <a:tr h="61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Στόχος 1ο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κτέλεση - Β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fcb"/>
                    </a:solidFill>
                  </a:tcPr>
                </a:tc>
              </a:tr>
              <a:tr h="492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Επανάληψη 1-2 κλίση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Περιεχόμενα των τεσσάρων στηλώ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Wingdings 2" charset="2"/>
                        <a:buChar char="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Η πρώτη στήλη παρουσιάζει : τα λατινικά  ονόματα των πτώσεων &amp; ταυτόχρονα απλοϊκές μεν, αλλά χρήσιμες για τους μαθητές πληροφορίες για τη συντακτική χρήση των πτώσεων σε σύγκριση με την αγγλική γλώσσα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914400" indent="-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Wingdings" charset="2"/>
                        <a:buChar char="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Μπορούν εδώ να αξιοποιηθούν οι γνώσεις των μαθητών από την αγγλική γλώσσα ιδιαίτερα σε ό,τι αφορά την ορολογία, όπως : «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ssession case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, «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rect object case</a:t>
                      </a: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»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Π.Ν.Χ  Ε42/ΑΠΘ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554-C756-4B55-962C-43C44AADE100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θεσ/κη-13 /12/ 2001 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1T06:44:26Z</dcterms:created>
  <dc:creator>Polharit</dc:creator>
  <dc:description/>
  <dc:language>en-US</dc:language>
  <cp:lastModifiedBy>a</cp:lastModifiedBy>
  <dcterms:modified xsi:type="dcterms:W3CDTF">2005-08-13T21:08:01Z</dcterms:modified>
  <cp:revision>135</cp:revision>
  <dc:subject/>
  <dc:title>ΣΕΝΑΡΙΟ ΔΙΔΑΣΚΑΛΙΑΣ</dc:title>
</cp:coreProperties>
</file>