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26.jpeg" ContentType="image/jpeg"/>
  <Override PartName="/ppt/media/image19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2.jpeg" ContentType="image/jpeg"/>
  <Override PartName="/ppt/media/image23.jpeg" ContentType="image/jpeg"/>
  <Override PartName="/ppt/media/image17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21D3-404E-4292-A15E-8CAE9AE9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FF92-AB5F-4EDB-AF6E-9943B0DB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36CE-13B4-4489-B2F9-167455418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AD1A-D9A7-475E-BC3D-043AE1D2A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E0FC-1E01-40F3-B4FB-F16F6012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06EA-FF11-4685-AA13-C0AA7E51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446A-60BB-4CAE-90DE-09F36193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31DC-68A0-43BD-A942-50D1690A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A5EA-2E41-4A99-9213-BC601536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34EC-8335-4363-BA73-88273E9A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0E65-97F4-4B73-957C-E6C6E0E2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02F3-6BEB-48BD-BDFD-66314282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8D4C-DBEF-4A45-8EE3-2C8C323E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81FA-CABB-4820-A361-A8EFD6BE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AF3D-0F5D-4CC4-A7E9-1EFBD697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3952-D79A-43E1-AD5E-DECE81CA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542A-EB70-401B-B2EE-37FF34D1C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7619A-FB70-4929-A0F2-FE136C06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8E149-9472-4A1A-B1A2-91F795AD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A36AC-3A4D-443C-9291-0A9150DA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E677A-7F5F-42F3-B06C-1B6DBBB1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B1726-B558-4F2E-8ECB-84863FA8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1986-A930-4330-88C0-55674545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C94A0-E943-46FB-B07F-6DDB0F0B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A5BC0-757E-4866-9A9A-521DCC22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CE7DF-0B23-4CC2-9AF8-8D1F15EE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1B3C1-9D59-436B-82D7-EB7BDF10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83B31-63A5-469F-89B6-E398598E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52DE2-93D9-4E99-80E9-B98B63AE4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BEA90-2A6B-4F87-B986-D3279EF53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B46B7-26B5-42F2-9EEB-18CC6B6B6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F6751-7AA8-45FC-B4C1-3C42D5A8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FB2A2-1E92-4214-A507-B28158D6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49E9-42C0-496A-B29F-126F8286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31402-2E89-479A-B78D-DB41D40D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CACE8-B766-4CC8-AADB-94693076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CE251-1CB2-4110-AC67-1DBB2D4E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0127E-A7ED-4191-8377-C87DE60F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64BE7-7B10-4C66-92A6-C5F2E75C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1CB8F-4D3A-46E3-8765-57502CD7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D4976-2272-4373-8772-C818620D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5907C-5170-4415-A2D1-5F6FB887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181CD-9440-44D9-899A-4CFB8E9D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862F-4F59-4B20-A51A-2036C222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F3B7-C85E-4B6A-B1F5-B9B1C438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47E2-0C22-4E75-B782-B4987A28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CC41-06C4-4B71-B8B0-F1C7E7CF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DDA3-C63E-4E06-820F-8545429A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BC961A-9AE7-4451-BB5A-287EF3BD1C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0359A-29AD-40DE-9DA8-A74097160E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e6e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93E63-2C71-4FD1-94FA-322420CEAC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0094"/>
            </a:gs>
            <a:gs pos="100000">
              <a:srgbClr val="00ff00"/>
            </a:gs>
          </a:gsLst>
          <a:lin ang="4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09617-DEAB-42BA-B19C-6A4F5A65F7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greenpeace.com/" TargetMode="External"/><Relationship Id="rId3" Type="http://schemas.openxmlformats.org/officeDocument/2006/relationships/hyperlink" Target="http://WWW.ARCTOYROS.GR/" TargetMode="External"/><Relationship Id="rId4" Type="http://schemas.openxmlformats.org/officeDocument/2006/relationships/hyperlink" Target="http://WWW.WWF.COM/" TargetMode="External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4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8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584360" y="250920"/>
            <a:ext cx="691200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33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l-GR" sz="5400" spc="-1" strike="noStrike">
                <a:solidFill>
                  <a:srgbClr val="ffffff"/>
                </a:solidFill>
                <a:latin typeface="Comic Sans MS"/>
              </a:rPr>
              <a:t>ΠΕΡΙΒΑΛΛΟΝΤΙΚΑ ΠΡΟΒΛΗΜΑΤ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6000" y="2411280"/>
            <a:ext cx="9577440" cy="21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Comic Sans MS"/>
              </a:rPr>
              <a:t>ΔΙΑΘΕΜΑΤΙΚΗ ΕΡΓΑΣΙΑ ΣΤΑ ΜΑΘΗΜΑΤ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l-GR" sz="3600" spc="-1" strike="noStrike">
                <a:solidFill>
                  <a:srgbClr val="ffffff"/>
                </a:solidFill>
                <a:latin typeface="Comic Sans MS"/>
              </a:rPr>
              <a:t>ΝΕΟΕΛΛΗΝΙΚΗ ΓΛΩΣΣ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l-GR" sz="3600" spc="-1" strike="noStrike">
                <a:solidFill>
                  <a:srgbClr val="ffffff"/>
                </a:solidFill>
                <a:latin typeface="Comic Sans MS"/>
              </a:rPr>
              <a:t>ΠΛΗΡΟΦΟΡΙΚ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6000" y="5929200"/>
            <a:ext cx="96487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l-GR" sz="4000" spc="-1" strike="noStrike">
                <a:solidFill>
                  <a:srgbClr val="ffffff"/>
                </a:solidFill>
                <a:latin typeface="Arial"/>
              </a:rPr>
              <a:t>ΓΥΜΝΑΣΙΟ ΕΠΙΣΚΟΠΗΣ – ΤΜΗΜΑ Α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l-GR" sz="2800" spc="-1" strike="noStrike" baseline="30000">
                <a:solidFill>
                  <a:srgbClr val="ffffff"/>
                </a:solidFill>
                <a:latin typeface="Arial"/>
              </a:rPr>
              <a:t>Υπεύθυνοι καθηγητές : Κέλλη</a:t>
            </a:r>
            <a:r>
              <a:rPr b="1" lang="el-G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2800" spc="-1" strike="noStrike" baseline="30000">
                <a:solidFill>
                  <a:srgbClr val="ffffff"/>
                </a:solidFill>
                <a:latin typeface="Arial"/>
              </a:rPr>
              <a:t>Ειρήνη-Κασσαπάκης Μιχαή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340000" y="-7650000"/>
            <a:ext cx="179280" cy="360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06520" y="360360"/>
            <a:ext cx="730584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ΑΙΤΙΕΣ ΛΕΙΨΥΔΡΙΑ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7280" y="1835280"/>
            <a:ext cx="8016840" cy="35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Λανθασμένη διαχείριση των φυσικών πόρ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Κλιματικές αλλαγέ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Κατανάλωση νερού πέρα από το διαθέσιμο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Συρρίκνωση των παγετών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1" lang="el-GR" sz="3400" spc="-1" strike="noStrike">
                <a:solidFill>
                  <a:srgbClr val="ffffff"/>
                </a:solidFill>
                <a:latin typeface="Arial"/>
              </a:rPr>
              <a:t>υ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σκολ</a:t>
            </a:r>
            <a:r>
              <a:rPr b="1" lang="el-GR" sz="3400" spc="-1" strike="noStrike">
                <a:solidFill>
                  <a:srgbClr val="ffffff"/>
                </a:solidFill>
                <a:latin typeface="Arial"/>
              </a:rPr>
              <a:t>ί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α στην ανάπτυξη των δικτύων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3400" spc="-1" strike="noStrike">
                <a:solidFill>
                  <a:srgbClr val="ffffff"/>
                </a:solidFill>
                <a:latin typeface="Arial"/>
              </a:rPr>
              <a:t>εξ’ αιτίας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ffffff"/>
                </a:solidFill>
                <a:latin typeface="Arial"/>
              </a:rPr>
              <a:t>της φ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τώχεια</a:t>
            </a:r>
            <a:r>
              <a:rPr b="1" lang="el-GR" sz="3400" spc="-1" strike="noStrike">
                <a:solidFill>
                  <a:srgbClr val="ffffff"/>
                </a:solidFill>
                <a:latin typeface="Arial"/>
              </a:rPr>
              <a:t>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Ανεπαρκής συντήρηση των δικτύ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474920" y="34920"/>
            <a:ext cx="69498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ΣΥΝΕΠΕΙΕΣ ΛΕΙΨΥΔΡΙΑ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19280" y="971640"/>
            <a:ext cx="9216720" cy="65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Η υποβολή των φυσικών πόρων νερού σ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διαδικασίες υποβάθμιση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Προβλήματα υγείας κατά την έλλειψη </a:t>
            </a: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νερο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Διαμάχες τοπικών κοινοτήτ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Μόλυνση – Ρύπανσ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Η απομόνωση και η εγκατάλειψη των καλλιεργειώ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Υποβάθμιση των υδάτινων οικοσυστημάτων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Οικολογικές επιπτώσει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Υφαλμύριση   των παράκτιων υπόγειων νερών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λόγω υπεράντληση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Η παρουσία νιτρικών ιόντων στα υπόγεια νερά και τ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ποτάμια από λιπάσματ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79640" y="4140360"/>
            <a:ext cx="180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52440" y="395928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79640" y="3780000"/>
            <a:ext cx="18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27400" y="630072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03280" y="250920"/>
            <a:ext cx="90835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000" spc="-1" strike="noStrike" u="sng">
                <a:solidFill>
                  <a:srgbClr val="33cc33"/>
                </a:solidFill>
                <a:uFillTx/>
                <a:latin typeface="Arial"/>
              </a:rPr>
              <a:t>Τι μπορούμε να κάνουμ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87280" y="1547640"/>
            <a:ext cx="9577440" cy="2067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336600"/>
                </a:solidFill>
                <a:latin typeface="Arial"/>
              </a:rPr>
              <a:t>Μείωση της σπατάλης και της υπερκατανάλωσ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336600"/>
                </a:solidFill>
                <a:latin typeface="Arial"/>
              </a:rPr>
              <a:t>Να μη ρυπαίνουμε τη φύση με σκοπό το κέρδο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336600"/>
                </a:solidFill>
                <a:latin typeface="Arial"/>
              </a:rPr>
              <a:t>Επισκευή</a:t>
            </a:r>
            <a:r>
              <a:rPr b="0" lang="en-GB" sz="3200" spc="-1" strike="noStrike">
                <a:solidFill>
                  <a:srgbClr val="336600"/>
                </a:solidFill>
                <a:latin typeface="Arial"/>
              </a:rPr>
              <a:t> δικτύ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336600"/>
                </a:solidFill>
                <a:latin typeface="Arial"/>
              </a:rPr>
              <a:t>Μείωση του αριθμού των φραγμάτ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1297080" y="3672000"/>
            <a:ext cx="7559640" cy="37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692440" y="2160720"/>
            <a:ext cx="4653000" cy="36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ECOCRETE.G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GREENPEAC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ARCTOYROS.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WWW.WWF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GOOGLE.G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00360" y="1079640"/>
            <a:ext cx="670716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ΧΡΗΣΙΜΕΣ ΙΣΤΟΣΕΛΙΔ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619280" y="179280"/>
            <a:ext cx="65008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39640" y="3102120"/>
            <a:ext cx="3419640" cy="2340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759280" y="3102120"/>
            <a:ext cx="3780000" cy="2340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20720" y="5400720"/>
            <a:ext cx="179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519280" y="360360"/>
            <a:ext cx="612000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4574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33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152360" y="1239840"/>
            <a:ext cx="7613640" cy="1892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ΔΙΑΧΕΙΡΙΣΗ  ΑΠΟΡΡΙΜΜΑΤΩΝ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9" name=""/>
          <p:cNvSpPr/>
          <p:nvPr/>
        </p:nvSpPr>
        <p:spPr>
          <a:xfrm>
            <a:off x="1087560" y="5800680"/>
            <a:ext cx="23320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ΧΩΜΑΤΕΡ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80000" y="5815080"/>
            <a:ext cx="477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00720" y="5800680"/>
            <a:ext cx="26956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ΑΝΑΚΥΚΛΩΣ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3160" y="7032600"/>
            <a:ext cx="98787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ΠΑΡΟΥΣΙΑΣΗ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ΠΙΤΣΟΥΛΑΚΗΣ ΜΑΝΩΛΗΣ,ΠΑΠΑΔΑΚΗΣ ΜΙΧΑΛΗΣ,ΤΡΟΥΛΛΙΝΑΚΗΣ ΓΙΑΝΝΗ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87640" y="185760"/>
            <a:ext cx="5545080" cy="8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3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l-GR" sz="5000" spc="-1" strike="noStrike">
                <a:solidFill>
                  <a:srgbClr val="ff3300"/>
                </a:solidFill>
                <a:latin typeface="Arial"/>
              </a:rPr>
              <a:t>ΕΝΟΤΗΤΑ 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00"/>
            </a:gs>
            <a:gs pos="100000">
              <a:srgbClr val="ff33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367920"/>
            <a:ext cx="95392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323dc"/>
                </a:solidFill>
                <a:latin typeface="Arial"/>
              </a:rPr>
              <a:t>ΤΑ ΑΠΟΡΡΙΜΜΑΤΑ ΣΤIΣ ΣΥΓΧΡΟΝΕΣ ΚΟΙΝΩΝΙ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16000" y="3781440"/>
            <a:ext cx="442584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Αύξηση του όγκου των απορριμάτω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Νέα υλικά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, όπως το πλαστικό,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με μακρά διάρκεια αντοχή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Τοξικά απόβλητ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11640" y="3846600"/>
            <a:ext cx="4969080" cy="33177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60360" y="2038320"/>
            <a:ext cx="1008072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Οι παράγοντες που δυσκολεύου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τη διαχείριση των απορριμμάτων στις σύγχρονε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κοινωνίες είναι κυρίως οι εξής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23640"/>
            <a:ext cx="907092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ΠΕΡΙΒΑΛΛΟΝΤΙΚΟΙ ΚΙΝΔΥΝΟΙ ΑΠΟ ΤΗΝ ΔΙΑΧΕΙΡΙΣΗ ΤΩΝ ΑΠΟΡΡΙΜΜΑΤΩ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60360" y="2484000"/>
            <a:ext cx="92152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Όλο και περισσότερος χώρος χρειάζεται για την απόθεση απορριμμάτ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Στους χώρους απόθεσης το έδαφος και ο υδροφόρος ορίζοντας κινδυνεύουν από τη ρύπανση, συχνά τοξικ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Η καύση ρυπαίνει την ατμόσφαιρα και το έδαφος με διοξίνε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Το τοπίο αλλοιώνεται και ολόκληρα οικοσυστήματα υποβαθμίζοντα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e6ff00"/>
                </a:solidFill>
                <a:latin typeface="Arial"/>
              </a:rPr>
              <a:t>ΠΡOΤΕΙΝΟΜΕΝΕΣ ΛΥΣΕΙ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800360"/>
            <a:ext cx="10080720" cy="48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Αλλάζουμε τρόπο ζωής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καταναλώνουμε με μέτρ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Μειώνουμε τον όγκο των απορριμάτων που παράγουμε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ΑΝΑΚΥΚΛΩΝΟΥΜΕ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ΞΑΝΑΧΡΗΣΙΜΟΠΟΙΟΥΜ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Αποφεύγουμε τις πλαστικές σακούλε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και τις πολλές συσκευασίε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ιαλογή στην πηγ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472000" y="4572000"/>
            <a:ext cx="3816360" cy="31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e6e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21636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ΑΝΑΚΥΚΛΩΝΟΥΜ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2555640"/>
            <a:ext cx="442584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Χαρτί, πλαστικό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γυαλί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αλουμίνι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Μπαταρίε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Ηλεκτρικές συσκευέ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Οργανικά υλικά (κομποστοποίηση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327640" y="2409840"/>
            <a:ext cx="3745080" cy="37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7344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ae00"/>
                </a:solidFill>
                <a:latin typeface="Arial"/>
              </a:rPr>
              <a:t>ΧΡΗΣΙΜΕΣ ΙΣΤΟΣΕΛΙΔ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60000" y="2265480"/>
            <a:ext cx="471636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greenpeac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electrocyc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recycle.g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151600" y="1768320"/>
            <a:ext cx="4425840" cy="29116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219640" y="1979640"/>
            <a:ext cx="431964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900000"/>
            <a:ext cx="179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-863640" y="108000"/>
            <a:ext cx="11700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l-GR" sz="4400" spc="-1" strike="noStrike">
                <a:solidFill>
                  <a:srgbClr val="ffff00"/>
                </a:solidFill>
                <a:latin typeface="Arial"/>
              </a:rPr>
              <a:t>ΕΝΟΤΗΤΑ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ΚΛΙΜΑΤΙΚΕΣ  ΑΛΛΑΓ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900000" y="1619280"/>
            <a:ext cx="8280360" cy="4680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92000" y="6732720"/>
            <a:ext cx="85600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Παρουσίαση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 ΜΑΝΟΥΣΑΚΗ ΜΑΙΡΗ, ΠΑΠΑΔΑΚΗ ΜΑΡΙΝΑ, ΔΡΑΓΑΝΟΒ  ΡΟΥΜΕ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216080" y="108000"/>
            <a:ext cx="771192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3600" spc="-1" strike="noStrike">
                <a:solidFill>
                  <a:srgbClr val="23ff23"/>
                </a:solidFill>
                <a:latin typeface="Arial"/>
              </a:rPr>
              <a:t>ΕΝΟΤΗΤΑ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23ff23"/>
                </a:solidFill>
                <a:latin typeface="Arial"/>
              </a:rPr>
              <a:t>ΜΕΙΩΣΗ   ΤΗΣ   ΒΙΟΠΟΙΚΙΛΟΤΗΤ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303640" y="3274920"/>
            <a:ext cx="3887640" cy="27860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44360" y="1366920"/>
            <a:ext cx="2778120" cy="27003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4535640" y="1476360"/>
            <a:ext cx="3060720" cy="2679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6840360" y="3132000"/>
            <a:ext cx="3079800" cy="29019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619280" y="6119640"/>
            <a:ext cx="702000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Παρουσίαση: Μαρία Τσαγκαραντωνάκη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Δάφνη Χατζηλουκά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Παναγιώτη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Φαρσαράκ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33"/>
            </a:gs>
            <a:gs pos="100000">
              <a:srgbClr val="e6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7344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Παράγοντες  μείωσης της βιοποικιλότητα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60360" y="1835280"/>
            <a:ext cx="7380360" cy="4897440"/>
          </a:xfrm>
          <a:prstGeom prst="rect">
            <a:avLst/>
          </a:prstGeom>
          <a:solidFill>
            <a:srgbClr val="ff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426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Κλιματικές αλλαγές που  επηρεάζουν τα οικοσυστήματ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426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Ανθρώπινη δραστηριότητα που  περιορίζει την έκταση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διαταράσσει τα οικοσυστήματα  (επέκταση οικισμών και οικονομικών δραστηριοτήτων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426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Κυνήγι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υπεραλίευσ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0094"/>
            </a:gs>
            <a:gs pos="100000">
              <a:srgbClr val="00ff00"/>
            </a:gs>
          </a:gsLst>
          <a:lin ang="4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60000" y="395280"/>
            <a:ext cx="9070920" cy="1171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863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Ο ΓΥΠΑΕΤΟ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720720" y="1800360"/>
            <a:ext cx="8459640" cy="48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432000" y="345600"/>
            <a:ext cx="10080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63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dc2300"/>
                </a:solidFill>
                <a:latin typeface="Arial"/>
              </a:rPr>
              <a:t>ΚΙΝΔΥΝΟΙ ΠΟΥ ΔΙΑΤΡΕΧΕΙ </a:t>
            </a:r>
            <a:br>
              <a:rPr sz="4400"/>
            </a:br>
            <a:r>
              <a:rPr b="0" lang="en-GB" sz="4400" spc="-1" strike="noStrike">
                <a:solidFill>
                  <a:srgbClr val="dc2300"/>
                </a:solidFill>
                <a:latin typeface="Arial"/>
              </a:rPr>
              <a:t>ΤΟ ΕΙΔΟ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l-GR" sz="3600" spc="-1" strike="noStrike">
                <a:solidFill>
                  <a:srgbClr val="ff0000"/>
                </a:solidFill>
                <a:latin typeface="Arial"/>
              </a:rPr>
              <a:t>Δ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ηλητηριασμένα δολώματ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l-GR" sz="3600" spc="-1" strike="noStrike">
                <a:solidFill>
                  <a:srgbClr val="ff0000"/>
                </a:solidFill>
                <a:latin typeface="Arial"/>
              </a:rPr>
              <a:t>Π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εριορισμός της ορεινής κτηνοτροφί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l-GR" sz="3600" spc="-1" strike="noStrike">
                <a:solidFill>
                  <a:srgbClr val="ff0000"/>
                </a:solidFill>
                <a:latin typeface="Arial"/>
              </a:rPr>
              <a:t>Μ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είωση των πληθυσμών των άγριων ορεινών μηρυκαστικών, τα οποία αποτελούν την κύρια πηγή της τροφής το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l-GR" sz="3600" spc="-1" strike="noStrike">
                <a:solidFill>
                  <a:srgbClr val="ff0000"/>
                </a:solidFill>
                <a:latin typeface="Arial"/>
              </a:rPr>
              <a:t>Λ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αθροθηρία και η έντονη παρενόχλησ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400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Η Κ ΑΦΕ ΑΡΚΟΥΔ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459640" y="3959280"/>
            <a:ext cx="1079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016000" y="2050920"/>
            <a:ext cx="6120000" cy="438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70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63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ΚΙΝΔΥΝΟΙ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- ΑΠΕΙΛ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31640" y="1454040"/>
            <a:ext cx="9071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Ο φόνος από τον  άνθρωπ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Η καταστροφή και υποβάθμιση των βιοτόπ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Η απομόνωση των βιοτόπων σε μικρή και σε μεγάλη κλίμακ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Η διακοπή του χειμέριου ύπνου λόγω ενόχλησ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Η έλλειψη γνώσης και πληροφόρησης, ενεργοποίησης καθώς και δραστηριοποίησης των πολιτώ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25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1280" y="301680"/>
            <a:ext cx="9071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ΔΕΛΦΙΝΙ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459640" y="3959280"/>
            <a:ext cx="1079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103400" y="1440000"/>
            <a:ext cx="7537320" cy="54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564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63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ΚΙΝΔΥΝΟΙ - ΑΠΕΙΛ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Η θαλάσσια  ρύπανσ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Η υποβάθμιση της παράκτιας ζώνη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Η  μείωση  της  τροφής  εξαιτίας  της υπεραλ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ίευση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Η τυχαία σύλληψή τους σε αλιευτικά εργαλεί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Η εσκεμμένη θανάτωση του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Η σκόπιμη σύλληψή του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33"/>
            </a:gs>
            <a:gs pos="100000">
              <a:srgbClr val="dd6e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86920" y="2505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Χρήσιμες ιστοσελίδ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7280" y="1959120"/>
            <a:ext cx="907092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wwf.g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arktouros.g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greenpeace.g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dolfin.g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2" dur="500" autoRev="1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4" dur="500" autoRev="1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2920" y="163080"/>
            <a:ext cx="9070920" cy="15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420e"/>
                </a:solidFill>
                <a:latin typeface="Arial"/>
              </a:rPr>
              <a:t>ΦΑΙΝΟΜΕΝΟ  </a:t>
            </a:r>
            <a:br>
              <a:rPr sz="3600"/>
            </a:br>
            <a:r>
              <a:rPr b="1" lang="en-US" sz="3600" spc="-1" strike="noStrike">
                <a:solidFill>
                  <a:srgbClr val="ff420e"/>
                </a:solidFill>
                <a:latin typeface="Arial"/>
              </a:rPr>
              <a:t>ΤΟΥ</a:t>
            </a:r>
            <a:br>
              <a:rPr sz="3600"/>
            </a:br>
            <a:r>
              <a:rPr b="1" lang="en-US" sz="3600" spc="-1" strike="noStrike">
                <a:solidFill>
                  <a:srgbClr val="ff420e"/>
                </a:solidFill>
                <a:latin typeface="Arial"/>
              </a:rPr>
              <a:t>ΘΕΡΜΟΚΗΠΙΟ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2266560"/>
            <a:ext cx="518472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Τα  τελευταία χρόνια, ο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όρος  συνδέεται με την παγκόσμια  θέρμανση ενώ θεωρείται πως το φαινόμενο έχει ενισχυθεί  σημαντικά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από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ανθρωπογενείς  δραστηριότητε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256360" y="2340000"/>
            <a:ext cx="431928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2920" y="-4680"/>
            <a:ext cx="907092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ΑΝΘΡΩΠΙΝΕΣ ΔΡΑΣΤΗΡΙΟΤΗΤΕΣ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ΠΟΥ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ΑΥΞ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ΑΝΟΥΝ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ΤΟ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ΣΤΗΝ   ΑΤΜΟΣΦΑΙΡ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2987640"/>
            <a:ext cx="54720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Παραγωγή ηλεκτρικής  ενέργειας: 3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Μεταφορές: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26,9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Βιομηχανία: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6,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Τριτογενής Τομέας: 13,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Λοιποί Τομείς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,1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256360" y="2987640"/>
            <a:ext cx="4824360" cy="36194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63640" y="2050920"/>
            <a:ext cx="1839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2920" y="-4680"/>
            <a:ext cx="907092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3366"/>
                </a:solidFill>
                <a:latin typeface="Arial"/>
              </a:rPr>
              <a:t>ΣΥΝΕΠEΙΕΣ  ΑΠΟ  ΤΗΝ ΠΑΓΚΟΣΜΙΑ ΑΥΞΗΣΗ  ΤΗΣ ΘΕΡΜΟΚΡΑΣΙΑΣ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2124000"/>
            <a:ext cx="492912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Ακραία  καιρικά  φαινόμεν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ιώσιμο  των  πάγ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Άνοδος της  στάθμης της  θάλασσ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ρημοποίηση  διαφόρων  περιοχώ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Έλλειψη  των  παγκόσμιων υδάτινων   πόρων  και  τροφή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40360" y="2700360"/>
            <a:ext cx="504036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00"/>
            </a:gs>
            <a:gs pos="100000">
              <a:srgbClr val="ff33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ΠΡΟΤΕΙΝΟΜΕΝΕΣ   ΛΥΣΕΙ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618920"/>
            <a:ext cx="540072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Να σβήνετε τα  φώτα που δεν χρειάζεστ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Χρησιμοποιήστε ηλιακό  θερμοσίφων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Χρησιμοποιήστε λάμπες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οικονομ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Προτιμήστε συσκευές  ενεργειακής  κατηγορίας  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ην αφήνετε τις ηλεκτρικές συσκευές σε κατάσταση αναμονής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84720" y="1547280"/>
            <a:ext cx="4896000" cy="27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Να  κάνετε τακτικά    απόψυξη στα  ψυγεία σ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ιώστε  τα  αεροπορικά  ταξίδι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618160" y="4132440"/>
            <a:ext cx="4030560" cy="34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376360" y="2556000"/>
            <a:ext cx="465300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GREENPEACE.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WWF.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STOPCLIMATECHANGE.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CLIMATECHANGE.EDU.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00360" y="1079640"/>
            <a:ext cx="670716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ΧΡΗΣΙΜΕΣ ΙΣΤΟΣΕΛΙΔ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1008072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l-GR" sz="6600" spc="-1" strike="noStrike">
                <a:solidFill>
                  <a:srgbClr val="000080"/>
                </a:solidFill>
                <a:latin typeface="Arial"/>
              </a:rPr>
              <a:t>ΕΝΟΤΗΤΑ   2</a:t>
            </a:r>
            <a:r>
              <a:rPr b="0" lang="en-GB" sz="66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Arial"/>
              </a:rPr>
              <a:t>ΠΟΙΟΤΗΤΑ 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ΚΑ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Arial"/>
              </a:rPr>
              <a:t>ΔΙΑΧΕΙΡΗΣΗ ΤΟΥ ΝΕΡΟ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40360" y="5219640"/>
            <a:ext cx="179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240000" y="2879640"/>
            <a:ext cx="3600360" cy="3240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60360" y="6300720"/>
            <a:ext cx="940896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ΠΑΡΟΥΣΙΑ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ΑΝΔΡΕΑΣ ΜΙΧΕΛΑΚΗΣ  -  ΓΙΑΝΝΗΣ ΠΑΠΑΔΑΚΗΣ  -   ΓΙΑΝΝΗΣ  ΣΥΝΤΙΧΑΚ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900000" y="3780000"/>
            <a:ext cx="18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00360" y="395280"/>
            <a:ext cx="42768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ΛΕΙΨΥΔΡΙ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0720" y="270036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00720" y="6480000"/>
            <a:ext cx="360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59280" y="1994040"/>
            <a:ext cx="2160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810720" y="7213680"/>
            <a:ext cx="270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619280"/>
            <a:ext cx="10080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Οι ποσότητες του νερού  δεν επαρκούν για τη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ικανοποίηση των ανθρώπινων αναγκών ή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των αναγκών του οικοσυστήματος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160720" y="3419640"/>
            <a:ext cx="5580000" cy="377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ΕΙΡΗΝΗ ΚΕΛΛΗ</cp:lastModifiedBy>
  <dcterms:modified xsi:type="dcterms:W3CDTF">2009-05-14T13:15:20Z</dcterms:modified>
  <cp:revision>38</cp:revision>
  <dc:subject/>
  <dc:title>Διαφάνεια 1</dc:title>
</cp:coreProperties>
</file>