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B50-1A5B-4D00-A823-F9695514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FF77-3AF2-4C3F-9726-0E280CAF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D081-03B0-452F-84B3-50BC5583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432-14B6-4806-8CC0-08B291F8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C8C6-7B1B-4293-848C-0C9C612A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2F97-D4C5-4693-803C-AC0E5827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A04A-FA5E-4CFA-88DF-D2779901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6DDF-538E-40F3-B413-B20E0BC0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4493-9C33-4577-A186-326F3818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C613-F7C0-4F6F-A152-E83FF164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0D48-7A23-4C2D-8BAB-B5FA9FD0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53F8-640B-4E24-9644-11A094C0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B9F7-0B43-4332-802B-A3CECAC0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7E5F-CC3D-4886-91BF-7C0C53A1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A32D-FCC9-462E-9A4F-E938FC05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0B08-A452-44F7-8D09-1160D188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64C4-ABD7-4595-9118-396CF52A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5E829-CB5D-4F73-889A-10EAF53C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7F3C9-472C-4F3D-9E1E-33A6876C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66109-F1D0-479D-903E-0E64AC6E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AD617-D50A-4B43-B3F6-26BE5805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BA853-855B-4580-9524-766B410E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5A89-F281-4248-9CFF-16E2BD90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5B932-5402-4D8B-97F3-B1EBFC20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583CE-B72C-4526-8BD0-ADE66FB2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6524B-4B16-4B19-A3BD-48A19014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FB893-9151-4254-B201-2A457AB0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47001-9C2C-4CBD-B126-A8F32BCA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8BC4C-4E25-4DAC-98FA-322BCAE8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851B2-7052-4CBF-8EFF-B0191A60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A039-93EA-4EBA-ACEC-90ECBD13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BE6-1AFC-48DA-94D3-2FE880E9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8F23-7525-4D04-BDFB-3BD90292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35C7-6FDB-4247-9BA0-B0650FF1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B008-19B4-4AF8-9A22-E9A9C899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4FED-7108-49CE-A208-4355D924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7764-44CC-40AB-836C-FBD104649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3FE4-B97D-437C-A5F8-8B70949340E4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rebuchet MS"/>
              </a:rPr>
              <a:t>28-30 Μαρτίου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2556000" y="6244920"/>
            <a:ext cx="346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rebuchet MS"/>
              </a:rPr>
              <a:t>4</a:t>
            </a:r>
            <a:r>
              <a:rPr b="0" lang="el-GR" sz="1200" spc="-1" strike="noStrike" baseline="30000">
                <a:solidFill>
                  <a:srgbClr val="000000"/>
                </a:solidFill>
                <a:latin typeface="Trebuchet MS"/>
              </a:rPr>
              <a:t>ο</a:t>
            </a:r>
            <a:r>
              <a:rPr b="0" lang="el-GR" sz="1200" spc="-1" strike="noStrike">
                <a:solidFill>
                  <a:srgbClr val="000000"/>
                </a:solidFill>
                <a:latin typeface="Trebuchet MS"/>
              </a:rPr>
              <a:t> Συνέδριο «Διδακτική της Πληροφορικής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73DF-9B6F-4B9A-AFF8-DFC0A8C73ECC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rebuchet MS"/>
              </a:rPr>
              <a:t>Αξιοποίηση του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moodle</a:t>
            </a:r>
            <a:br>
              <a:rPr sz="3600"/>
            </a:br>
            <a:r>
              <a:rPr b="0" lang="el-GR" sz="3600" spc="-1" strike="noStrike">
                <a:solidFill>
                  <a:srgbClr val="000000"/>
                </a:solidFill>
                <a:latin typeface="Trebuchet MS"/>
              </a:rPr>
              <a:t> σε μαθήματα του Λυκείου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Μαρία Σκιαδέλλη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rebuchet MS"/>
              </a:rPr>
              <a:t>Πληροφορικός ΠΕ19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4ο Συνέδριο "Διδακτική της Πληροφορικής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85234-C264-4FE9-9D34-663E88F18149}" type="slidenum">
              <a:t>1</a:t>
            </a:fld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rebuchet MS"/>
              </a:rPr>
              <a:t>Σημεία ++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Αυτοματοποιημένη εγκατάσταση και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b interface</a:t>
            </a: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Απλότητα της διεπαφής και ευκολία της εκμάθησης των λειτουργιών της (από τους μαθητέ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Ενιαίο περιβάλλον φιλοξενίας πολλών διαφορετικών εργαλείων (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tml editing, web browsing, forums, wikis, blogs, </a:t>
            </a: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κλπ.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Εξελληνισμένο (μερικώ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Δυνατότητα αυτόματης δημιουργίας λογαριασμών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Συνδυασμός υλικού και δραστηριοτήτων: «δες αυτό και κάνε κάτι με αυτό», που εκφράζει καλύτερα τη σύγχρονη τάση για ενεργητική μάθηση (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ctive learning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Δυνατότητα βαθμιαίου εμπλουτισμού ή τροποποιήσεων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Καλύτερη οργάνωση του μαθήματος: μπορεί κανείς να έχει μία συνολική άποψη για το τι έχει γίνει μέχρι τώρα στην τάξη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4ο Συνέδριο "Διδακτική της Πληροφορικής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E216-98AA-478D-B928-60BD11849C22}" type="slidenum">
              <a:t>10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rebuchet MS"/>
              </a:rPr>
              <a:t>Σημεία --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91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Εργαλεία απλοϊκά, με ελλείψεις κάποιων βασικών χαρακτηριστικών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Αστάθεια σε περίπτωση υπερφόρτωσης π.χ. συχνές διακοπές σε περίπτωση σύγχρονης συνομιλίας πολλών χρηστών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Στη διαχείριση των χρηστών πρέπει να προστεθεί η έννοια της τάξη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Δεν μπορεί να γίνει καλή υποστήριξη ομάδων εργασίας δηλ. 2 ή 3 μαθητές (που έχουν ήδη λογαριασμό) να ορισθεί ότι ανήκουν στην ίδια ομάδα για το συγκεκριμένο μάθημα και να μπορούν να κάνουν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gin </a:t>
            </a: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ως ομάδα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4ο Συνέδριο "Διδακτική της Πληροφορικής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85BE-EC95-4022-8278-E08E64272468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rebuchet MS"/>
              </a:rPr>
              <a:t>Συμμετοχή σε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rums </a:t>
            </a:r>
            <a:r>
              <a:rPr b="0" lang="el-GR" sz="3200" spc="-1" strike="noStrike">
                <a:solidFill>
                  <a:srgbClr val="000000"/>
                </a:solidFill>
                <a:latin typeface="Trebuchet MS"/>
              </a:rPr>
              <a:t>συζητήσεων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rebuchet MS"/>
              </a:rPr>
              <a:t>Ζητούμενα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Η εξασφάλιση της συμμετοχής μεγάλου ποσοστού μαθητών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Η τήρηση των κανόνων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Η πραγματοποίηση δομημένης συζήτησης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rebuchet MS"/>
              </a:rPr>
              <a:t>Τρόπος διεξαγωγής της διδακτικής πρότασης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Επιλέχθηκαν 2 θεματικές περιοχές για μεγαλύτερη πιθανότητα αποδοχής (τεχνολογία και άνθρωπος – σύγχρονα πρότυπα ομορφιάς),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 </a:t>
            </a: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προβληματισμός σε κάθε θεματική περιοχή τίθεται με τη βοήθεια ενός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deo. </a:t>
            </a: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Το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deo </a:t>
            </a: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υπερτερεί σε σχέση με το  κείμενο (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munication)</a:t>
            </a: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. Το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deo </a:t>
            </a: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δεν εκφράζει μια συγκεκριμένη άποψη, κινητοποιεί συναισθηματικά και δέχεται πολλές ερμηνείες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Δημιουργούνται 3-4 θέματα για συζήτηση (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opics)</a:t>
            </a: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 σε κάθε θεματική περιοχή, από τον καθηγητή, ο οποίος στέλνει το αρχικό μήνυμα για καλύτερη οριοθέτηση της συζήτησης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Τα παιδιά καλούνται να συμμετέχουν σε κάποια/ες από τις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υπάρχουσες συζητήσεις ή να θέσουν και κάποιο νέο θέμα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4ο Συνέδριο "Διδακτική της Πληροφορικής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8D80-3B67-47C0-9C86-6B6BA6721834}" type="slidenum">
              <a:t>12</a:t>
            </a:fld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7632720" cy="553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4ο Συνέδριο "Διδακτική της Πληροφορικής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3E2E-141D-42F4-BAAA-BA7E2723402B}" type="slidenum">
              <a:t>13</a:t>
            </a:fld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rebuchet MS"/>
              </a:rPr>
              <a:t>Παρατηρήσεις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1" lang="el-GR" sz="3200" spc="-1" strike="noStrike">
                <a:solidFill>
                  <a:srgbClr val="000000"/>
                </a:solidFill>
                <a:latin typeface="Trebuchet MS"/>
              </a:rPr>
              <a:t>προβλήματα από τη χρήση των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um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64560" y="2123640"/>
            <a:ext cx="7876800" cy="383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Όλοι θέλουν να συμμετέχουν, ακόμα και μαθητές που γενικά δεν συμμετέχουν στο μάθημα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Συνήθως ένας μαθητής στέλνει ένα μήνυμα και οι υπόλοιποι επιδοκιμάζουν ή αποδοκιμάζουν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Τα περισσότερα παιδιά δυσκολεύονται να εκφράσουν γραπτά μια ολοκληρωμένη άποψη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Στέλνονται αρκετά μηνύματα εκτός θέματος ή με ακατάλληλο περιεχόμενο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Βοηθά αρκετά το παιχνίδι των ρόλων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Τα παιδιά προτιμούν το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stance messag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ους αρέσει να χρησιμοποιούν ψευδώνυμα, αντί για το πραγματικό τους όνομα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4ο Συνέδριο "Διδακτική της Πληροφορικής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CF88-3301-416E-B945-D9D5E51A0C9A}" type="slidenum">
              <a:t>14</a:t>
            </a:fld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iki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Η δραστηριότητα αποσκοπεί στην κατασκευή ενός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iki </a:t>
            </a: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με κάποιο  συγκεκριμένο θέμα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Το θέμα πρέπει να είναι κοινά αποδεκτό από όλη την ομάδα / τάξη που θα συμμετέχει στη δημιουργία του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Πρέπει να υποδιαιρείται εύκολα σε υποθέματα μεταξύ των οποίων να υπάρχει η δυνατότητα διασυνδέσεων  π.χ. μουσική,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inema</a:t>
            </a: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, κλπ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Το θέμα μπορεί να προκύψει μετά από διαπραγμάτευση ή να ορισθεί από τον καθηγητή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Όλη η τάξη μπορεί να δουλεύει σε ένα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iki</a:t>
            </a: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 ή μπορεί να χωριστεί σε 2 ή 3 ομάδες και κάθε μία να φτιάξει το δικό της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iki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4ο Συνέδριο "Διδακτική της Πληροφορικής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D26D-CB43-4329-8455-F974863FFEF4}" type="slidenum">
              <a:t>15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rebuchet MS"/>
              </a:rPr>
              <a:t>Λίγα λόγια για το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wiki…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81840" y="1781640"/>
            <a:ext cx="784224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iki </a:t>
            </a: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αποτελεί το κατ’ εξοχήν εργαλείο υποστήριξης της συνεργατικής μάθησης (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llaborative learning) </a:t>
            </a: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γιατί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Το τελικό αποτέλεσμα αποτελεί συνολική δουλειά όλης της τάξης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Το αποτέλεσμα είναι άμεσα ορατό και διαθέσιμο σε όλους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Η δουλειά της μίας ομάδας μπορεί να σχετιστεί με τη δουλειά άλλων ομάδων (μέσω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yperlink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Ίσως το ευκολότερο εργαλείο για συνεργατικό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eb editing: </a:t>
            </a: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ευκολία δημιουργίας νέων σελίδων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ευκολία δημιουργίας συνδέσεων μεταξύ των σελίδων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iki </a:t>
            </a: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είναι εγαλείο με πολλές δυνατότητες που η διδακτική τους αξιοποίηση δεν έχει πλήρως διερευνηθεί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4ο Συνέδριο "Διδακτική της Πληροφορικής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C938-238D-4844-96F0-C557234E4D2E}" type="slidenum">
              <a:t>16</a:t>
            </a:fld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898800" cy="61912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4356000" y="333360"/>
            <a:ext cx="4533840" cy="619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4ο Συνέδριο "Διδακτική της Πληροφορικής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73CF-822E-497A-A568-21EDCB89753B}" type="slidenum">
              <a:t>17</a:t>
            </a:fld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rebuchet MS"/>
              </a:rPr>
              <a:t>Συμπεράσματα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rebuchet MS"/>
              </a:rPr>
              <a:t>Σημασία έχουν οι ιδέες όχι τα εργαλεία. Δοκιμάστε τις δικές σας ιδέες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rebuchet MS"/>
              </a:rPr>
              <a:t>Ο καθένας χρησιμοποιεί την τεχνολογία με το δικό του τρόπο, όπως κάνει μάθημα με το δικό του τρόπο. Βρείτε το δικό σας τρόπο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rebuchet MS"/>
              </a:rPr>
              <a:t>Εμπνευστείτε από τις δραστηριότητες των άλλων, μην ακολουθείτε συνταγές!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rebuchet MS"/>
              </a:rPr>
              <a:t>Για περισσότερες δραστηριότητες δείτε το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l-GR" sz="2800" spc="-1" strike="noStrike">
                <a:solidFill>
                  <a:srgbClr val="333399"/>
                </a:solidFill>
                <a:latin typeface="Trebuchet MS"/>
              </a:rPr>
              <a:t>http://users.att.sch.gr/skiadelli/eActivities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4ο Συνέδριο "Διδακτική της Πληροφορικής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801B-FC19-4C8B-A32E-60CB808ED1C4}" type="slidenum">
              <a:t>18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rebuchet MS"/>
              </a:rPr>
              <a:t>Λίγα λόγια για το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moodl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915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rebuchet MS"/>
              </a:rPr>
              <a:t>Δημοφιλής πλατφόρμα ανοιχτού κώδικα για τη δημιουργία και παράδοση ηλεκτρονικών μαθημάτων (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M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rebuchet MS"/>
              </a:rPr>
              <a:t>Μεγαλή κοινότητα χρηστών παγκοσμίως για άμεση υποστήριξη (330.000 εγγεγραμένοι χρήστες από 196 χώρες στο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http://www.moodle.org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rebuchet MS"/>
              </a:rPr>
              <a:t>Η ελληνική κοινότητα αριθμεί αρκετά μέλη, ανάμεσά τους και αρκετοί ενεργοί εκπαιδευτικοί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el-GR" sz="2800" spc="-1" strike="noStrike">
                <a:solidFill>
                  <a:srgbClr val="000000"/>
                </a:solidFill>
                <a:latin typeface="Trebuchet MS"/>
              </a:rPr>
              <a:t>144 καταχωρημένες εγκαταστάσεις στο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oodle.or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4ο Συνέδριο "Διδακτική της Πληροφορικής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FFBE-4D78-4185-9880-CB0E895806F8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rebuchet MS"/>
              </a:rPr>
              <a:t>Το μοντέλο μεικτής μάθησης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Ένα εφικτό μοντέλο μοντέλο μάθησης για διδασκαλία σε τάξη σύμφωνα με το οποίο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Η πραγματική μάθηση συντελείται από ανθρώπους με βάσει τις ικανότητές τους και τις κοινωνικές και διαπροσωπικές τους δεξιότητες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Η μάθηση συνεχίζει να πραγματοποιείται μέσω των αλληλεπιδράσεων καθηγητή-μαθητών και των μαθητών μεταξύ τους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Οι αλληλεπιδράσεις αυτές, με τη βοήθεια της τεχνολογίας γίνονται πιο απτές, πιο συγκεκριμένες και πιο διαχειρίσιμες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Χρήση της τεχνολογίας όπου και όταν χρειάζεται αλλά όχι μόνο για τη διαχείριση και οργάνωση του μαθήματος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Ερωτήματα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Μπορεί η τεχνολογία να ενισχύσει το μαθησιακό αποτέλεσμα, να το κάνει πιο βαθύ και πιο παρατεταμένο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Μπορεί η τεχνολογία να μπει στο κέντρο της εκπαιδευτικής διαδικασίας και να αποτελέσει αναπόσπαστο τμήμα της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4ο Συνέδριο "Διδακτική της Πληροφορικής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5AA0-72A2-4A5C-ACA5-F6B7CCD0C77E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rebuchet MS"/>
              </a:rPr>
              <a:t>Τι είναι ένα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oodle </a:t>
            </a:r>
            <a:r>
              <a:rPr b="0" lang="el-GR" sz="3200" spc="-1" strike="noStrike">
                <a:solidFill>
                  <a:srgbClr val="000000"/>
                </a:solidFill>
                <a:latin typeface="Trebuchet MS"/>
              </a:rPr>
              <a:t>μάθημα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91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rebuchet MS"/>
              </a:rPr>
              <a:t>Ένα σύνολο από δραστηριότητες (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ctivities) </a:t>
            </a:r>
            <a:r>
              <a:rPr b="0" lang="el-GR" sz="2800" spc="-1" strike="noStrike">
                <a:solidFill>
                  <a:srgbClr val="000000"/>
                </a:solidFill>
                <a:latin typeface="Trebuchet MS"/>
              </a:rPr>
              <a:t>και υλικό (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sources) </a:t>
            </a:r>
            <a:r>
              <a:rPr b="0" lang="el-GR" sz="2800" spc="-1" strike="noStrike">
                <a:solidFill>
                  <a:srgbClr val="000000"/>
                </a:solidFill>
                <a:latin typeface="Trebuchet MS"/>
              </a:rPr>
              <a:t>ομαδοποιημένα χρονικά ή θεματικά, το οποίο μπορεί να αντιστοιχεί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σε ένα διδακτικό αντικείμενο του τύπου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Τεχνολογία Επικοινωνιών» της Β λυκείου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στο μάθημα μιας διδακτικής ώρας ή διώρου π.χ. διαγώνισμα Β τριμήνου στο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σε μια διδακτική ενότητα π.χ. </a:t>
            </a:r>
            <a:r>
              <a:rPr b="1" lang="el-GR" sz="2400" spc="-1" strike="noStrike">
                <a:solidFill>
                  <a:srgbClr val="000000"/>
                </a:solidFill>
                <a:latin typeface="Trebuchet MS"/>
              </a:rPr>
              <a:t>«Μορφές επικοινωνίας και συνεργασίας στο διαδίκτυο»</a:t>
            </a:r>
            <a:r>
              <a:rPr b="0" lang="el-GR" sz="2400" spc="-1" strike="noStrike">
                <a:solidFill>
                  <a:srgbClr val="000000"/>
                </a:solidFill>
                <a:latin typeface="Trebuchet MS"/>
              </a:rPr>
              <a:t> του μαθήματος  «Εφαρμογές Πληροφορικής της Β και Γ Λυκείου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4ο Συνέδριο "Διδακτική της Πληροφορικής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41E2-E0E0-4446-A5EF-0F5E8EB618F3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8137440" cy="589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4ο Συνέδριο "Διδακτική της Πληροφορικής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7A4C-0149-40F4-B724-28F5C35B04AD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rebuchet MS"/>
              </a:rPr>
              <a:t>Η δομή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64320" y="994320"/>
            <a:ext cx="7786080" cy="5677200"/>
            <a:chOff x="364320" y="994320"/>
            <a:chExt cx="7786080" cy="5677200"/>
          </a:xfrm>
        </p:grpSpPr>
        <p:sp>
          <p:nvSpPr>
            <p:cNvPr id="135" name=""/>
            <p:cNvSpPr/>
            <p:nvPr/>
          </p:nvSpPr>
          <p:spPr>
            <a:xfrm>
              <a:off x="3191040" y="994320"/>
              <a:ext cx="2348640" cy="8283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5040" y="3167280"/>
              <a:ext cx="2377080" cy="532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4320" y="4881600"/>
              <a:ext cx="648720" cy="4993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76280" y="3167280"/>
              <a:ext cx="2377080" cy="532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73320" y="3167280"/>
              <a:ext cx="2377080" cy="532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091240" y="1837800"/>
              <a:ext cx="226044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85520" y="1837800"/>
              <a:ext cx="0" cy="13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85520" y="1820880"/>
              <a:ext cx="2509920" cy="134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93360" y="3699720"/>
              <a:ext cx="798840" cy="11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92560" y="3715560"/>
              <a:ext cx="1513440" cy="11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34640" y="3715560"/>
              <a:ext cx="915480" cy="11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45560" y="3699720"/>
              <a:ext cx="598680" cy="123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98360" y="5119200"/>
              <a:ext cx="649080" cy="4982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14920" y="5105880"/>
              <a:ext cx="649080" cy="4993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15840" y="4839480"/>
              <a:ext cx="648720" cy="5007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63640" y="4859640"/>
              <a:ext cx="648000" cy="4982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65000" y="5073480"/>
              <a:ext cx="650160" cy="4993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46280" y="4825440"/>
              <a:ext cx="648720" cy="4982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43560" y="4930920"/>
              <a:ext cx="648000" cy="4968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09440" y="4932000"/>
              <a:ext cx="649080" cy="4968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75280" y="3699720"/>
              <a:ext cx="798840" cy="142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3600" y="3715560"/>
              <a:ext cx="0" cy="13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18000" y="3683880"/>
              <a:ext cx="116280" cy="144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820680" y="3715560"/>
              <a:ext cx="413640" cy="11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612840" y="3682440"/>
              <a:ext cx="448920" cy="124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6280" y="4927320"/>
              <a:ext cx="43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77200" y="5178960"/>
              <a:ext cx="4147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37800" y="4946760"/>
              <a:ext cx="48204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84880" y="5195880"/>
              <a:ext cx="48204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16120" y="4879080"/>
              <a:ext cx="5482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97200" y="5013000"/>
              <a:ext cx="5486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95120" y="5013000"/>
              <a:ext cx="515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7280" y="3267720"/>
              <a:ext cx="179532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opic_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20720" y="3233160"/>
              <a:ext cx="191232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opic_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98480" y="3201480"/>
              <a:ext cx="1562400" cy="4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opic_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4240" y="1221840"/>
              <a:ext cx="177948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oodle 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5400" y="6119640"/>
              <a:ext cx="648000" cy="4993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3160" y="6209640"/>
              <a:ext cx="53712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45440" y="6160680"/>
              <a:ext cx="188568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 Activity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26000" y="6172200"/>
              <a:ext cx="648000" cy="4993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01360" y="6208560"/>
              <a:ext cx="20286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 Resource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03760" y="6225840"/>
              <a:ext cx="49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4ο Συνέδριο "Διδακτική της Πληροφορικής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D74D-8512-4CF1-B0DA-EB660693CEA0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rebuchet MS"/>
              </a:rPr>
              <a:t>Εκπαιδευτικός σχεδιασμός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68360" y="1738440"/>
            <a:ext cx="8229240" cy="4546080"/>
            <a:chOff x="468360" y="1738440"/>
            <a:chExt cx="8229240" cy="4546080"/>
          </a:xfrm>
        </p:grpSpPr>
        <p:sp>
          <p:nvSpPr>
            <p:cNvPr id="180" name=""/>
            <p:cNvSpPr/>
            <p:nvPr/>
          </p:nvSpPr>
          <p:spPr>
            <a:xfrm>
              <a:off x="3028680" y="1738440"/>
              <a:ext cx="2759040" cy="848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Times New Roman"/>
                </a:rPr>
                <a:t>Διδακτική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l-GR" sz="2000" spc="-1" strike="noStrike">
                  <a:solidFill>
                    <a:srgbClr val="000000"/>
                  </a:solidFill>
                  <a:latin typeface="Times New Roman"/>
                </a:rPr>
                <a:t>Ενότητ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l-GR" sz="1600" spc="-1" strike="noStrike">
                  <a:solidFill>
                    <a:srgbClr val="000000"/>
                  </a:solidFill>
                  <a:latin typeface="Times New Roman"/>
                </a:rPr>
                <a:t>Μορφές Επικοινωνίας και Συνεργασίας στο διαδίκτυο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1520" y="3601800"/>
              <a:ext cx="2476800" cy="7315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Times New Roman"/>
                </a:rPr>
                <a:t>Διδ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1" lang="el-GR" sz="1800" spc="-1" strike="noStrike">
                  <a:solidFill>
                    <a:srgbClr val="ffffff"/>
                  </a:solidFill>
                  <a:latin typeface="Times New Roman"/>
                </a:rPr>
                <a:t>κή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l-GR" sz="1800" spc="-1" strike="noStrike">
                  <a:solidFill>
                    <a:srgbClr val="ffffff"/>
                  </a:solidFill>
                  <a:latin typeface="Times New Roman"/>
                </a:rPr>
                <a:t>Υποενότητα 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Foru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27560" y="3567600"/>
              <a:ext cx="2460600" cy="7660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Times New Roman"/>
                </a:rPr>
                <a:t>Διδ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1" lang="el-GR" sz="1800" spc="-1" strike="noStrike">
                  <a:solidFill>
                    <a:srgbClr val="ffffff"/>
                  </a:solidFill>
                  <a:latin typeface="Times New Roman"/>
                </a:rPr>
                <a:t>κή Υποενότητα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Ch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86600" y="3534120"/>
              <a:ext cx="2511000" cy="848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Times New Roman"/>
                </a:rPr>
                <a:t>Διδ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1" lang="el-GR" sz="1800" spc="-1" strike="noStrike">
                  <a:solidFill>
                    <a:srgbClr val="ffffff"/>
                  </a:solidFill>
                  <a:latin typeface="Times New Roman"/>
                </a:rPr>
                <a:t>κή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l-GR" sz="1800" spc="-1" strike="noStrike">
                  <a:solidFill>
                    <a:srgbClr val="ffffff"/>
                  </a:solidFill>
                  <a:latin typeface="Times New Roman"/>
                </a:rPr>
                <a:t>Υποενότητα 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ik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68360" y="4732560"/>
              <a:ext cx="2709720" cy="1551960"/>
              <a:chOff x="468360" y="4732560"/>
              <a:chExt cx="2709720" cy="1551960"/>
            </a:xfrm>
          </p:grpSpPr>
          <p:sp>
            <p:nvSpPr>
              <p:cNvPr id="185" name=""/>
              <p:cNvSpPr/>
              <p:nvPr/>
            </p:nvSpPr>
            <p:spPr>
              <a:xfrm>
                <a:off x="1149480" y="4732560"/>
                <a:ext cx="2028600" cy="5317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Δραστηριότητα_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468360" y="5053680"/>
                <a:ext cx="2427120" cy="1230840"/>
                <a:chOff x="468360" y="5053680"/>
                <a:chExt cx="2427120" cy="12308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849960" y="5053680"/>
                  <a:ext cx="2045520" cy="5482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1600" spc="-1" strike="noStrike">
                      <a:solidFill>
                        <a:srgbClr val="000000"/>
                      </a:solidFill>
                      <a:latin typeface="Times New Roman"/>
                    </a:rPr>
                    <a:t>Δραστηριότητα_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67080" y="5386320"/>
                  <a:ext cx="1929240" cy="5482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1600" spc="-1" strike="noStrike">
                      <a:solidFill>
                        <a:srgbClr val="000000"/>
                      </a:solidFill>
                      <a:latin typeface="Times New Roman"/>
                    </a:rPr>
                    <a:t>Δραστηριότητα_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68360" y="5735880"/>
                  <a:ext cx="1893600" cy="5486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1600" spc="-1" strike="noStrike">
                      <a:solidFill>
                        <a:srgbClr val="000000"/>
                      </a:solidFill>
                      <a:latin typeface="Times New Roman"/>
                    </a:rPr>
                    <a:t>Δραστηριότητα_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16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ctivit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0" name=""/>
            <p:cNvSpPr/>
            <p:nvPr/>
          </p:nvSpPr>
          <p:spPr>
            <a:xfrm>
              <a:off x="1831680" y="4349520"/>
              <a:ext cx="0" cy="38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3282480" y="4768200"/>
              <a:ext cx="2424960" cy="1229400"/>
              <a:chOff x="3282480" y="4768200"/>
              <a:chExt cx="2424960" cy="1229400"/>
            </a:xfrm>
          </p:grpSpPr>
          <p:sp>
            <p:nvSpPr>
              <p:cNvPr id="192" name=""/>
              <p:cNvSpPr/>
              <p:nvPr/>
            </p:nvSpPr>
            <p:spPr>
              <a:xfrm>
                <a:off x="3663720" y="4768200"/>
                <a:ext cx="2043720" cy="547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Δραστηριότητα_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80840" y="5100120"/>
                <a:ext cx="1927440" cy="547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Δραστηριότητα_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282480" y="5449680"/>
                <a:ext cx="1892160" cy="547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Δραστηριότητα_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ctivit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4608000" y="433368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6062040" y="4787280"/>
              <a:ext cx="2424960" cy="1230840"/>
              <a:chOff x="6062040" y="4787280"/>
              <a:chExt cx="2424960" cy="1230840"/>
            </a:xfrm>
          </p:grpSpPr>
          <p:sp>
            <p:nvSpPr>
              <p:cNvPr id="197" name=""/>
              <p:cNvSpPr/>
              <p:nvPr/>
            </p:nvSpPr>
            <p:spPr>
              <a:xfrm>
                <a:off x="6443280" y="4787280"/>
                <a:ext cx="2043720" cy="5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260400" y="5119920"/>
                <a:ext cx="1927440" cy="548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Δραστηριότητα_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62040" y="5469480"/>
                <a:ext cx="1892160" cy="548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Δραστηριότητα_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ctivit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7267680" y="4365360"/>
              <a:ext cx="0" cy="74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830240" y="2586600"/>
              <a:ext cx="2444760" cy="9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59240" y="2569680"/>
              <a:ext cx="720" cy="99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59240" y="2586600"/>
              <a:ext cx="2659680" cy="9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4ο Συνέδριο "Διδακτική της Πληροφορικής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606C-A16F-47A1-9AFD-C39457A41DA8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rebuchet MS"/>
              </a:rPr>
              <a:t>Αντιστοίχιση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85000" y="1125360"/>
            <a:ext cx="8019000" cy="4800240"/>
            <a:chOff x="585000" y="1125360"/>
            <a:chExt cx="8019000" cy="4800240"/>
          </a:xfrm>
        </p:grpSpPr>
        <p:sp>
          <p:nvSpPr>
            <p:cNvPr id="206" name=""/>
            <p:cNvSpPr/>
            <p:nvPr/>
          </p:nvSpPr>
          <p:spPr>
            <a:xfrm>
              <a:off x="585000" y="2874960"/>
              <a:ext cx="3457440" cy="1179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66160" y="3408480"/>
              <a:ext cx="1263960" cy="498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49760" y="3489840"/>
              <a:ext cx="121500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opic_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14880" y="3412080"/>
              <a:ext cx="1263960" cy="497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46720" y="3489840"/>
              <a:ext cx="12124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opic_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635040" y="4752720"/>
              <a:ext cx="2293920" cy="1147320"/>
              <a:chOff x="635040" y="4752720"/>
              <a:chExt cx="2293920" cy="1147320"/>
            </a:xfrm>
          </p:grpSpPr>
          <p:sp>
            <p:nvSpPr>
              <p:cNvPr id="212" name=""/>
              <p:cNvSpPr/>
              <p:nvPr/>
            </p:nvSpPr>
            <p:spPr>
              <a:xfrm>
                <a:off x="635040" y="4752720"/>
                <a:ext cx="2293920" cy="11473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33760" y="5318280"/>
                <a:ext cx="632160" cy="51516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7320" y="5469120"/>
                <a:ext cx="44784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Α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81280" y="5268960"/>
                <a:ext cx="696960" cy="5482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896840" y="5351400"/>
                <a:ext cx="499320" cy="38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R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17120" y="4802760"/>
                <a:ext cx="2079360" cy="2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Δραστηριότητα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4347720" y="1125360"/>
              <a:ext cx="4256280" cy="1530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90880" y="1594800"/>
              <a:ext cx="3542040" cy="7484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07680" y="1761840"/>
              <a:ext cx="2529360" cy="4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oodle 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25120" y="1125360"/>
              <a:ext cx="245952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Διδακτική Ενότητ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7080" y="2891880"/>
              <a:ext cx="2593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Διδ/κή Υποενότητα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5476680" y="3209760"/>
              <a:ext cx="2292840" cy="1147320"/>
              <a:chOff x="5476680" y="3209760"/>
              <a:chExt cx="2292840" cy="1147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476680" y="3209760"/>
                <a:ext cx="2292840" cy="11473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675400" y="3775320"/>
                <a:ext cx="631800" cy="51516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808960" y="3926160"/>
                <a:ext cx="44784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Α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622560" y="3726000"/>
                <a:ext cx="696600" cy="5482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737760" y="3808440"/>
                <a:ext cx="498960" cy="38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R</a:t>
                </a:r>
                <a:r>
                  <a:rPr b="1" lang="el-GR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558760" y="3259800"/>
                <a:ext cx="2078280" cy="2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Δραστηριότητα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6311160" y="4726440"/>
              <a:ext cx="2292840" cy="1146240"/>
              <a:chOff x="6311160" y="4726440"/>
              <a:chExt cx="2292840" cy="1146240"/>
            </a:xfrm>
          </p:grpSpPr>
          <p:sp>
            <p:nvSpPr>
              <p:cNvPr id="231" name=""/>
              <p:cNvSpPr/>
              <p:nvPr/>
            </p:nvSpPr>
            <p:spPr>
              <a:xfrm>
                <a:off x="6311160" y="4726440"/>
                <a:ext cx="2292840" cy="1146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509880" y="5291280"/>
                <a:ext cx="631800" cy="5148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643440" y="5442120"/>
                <a:ext cx="447840" cy="3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Α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457040" y="5242320"/>
                <a:ext cx="696600" cy="5479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572240" y="5324400"/>
                <a:ext cx="49896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R</a:t>
                </a:r>
                <a:r>
                  <a:rPr b="1" lang="el-GR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393240" y="4776480"/>
                <a:ext cx="207828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Δραστηριότητα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644640" y="4779360"/>
              <a:ext cx="2293920" cy="1146240"/>
              <a:chOff x="3644640" y="4779360"/>
              <a:chExt cx="2293920" cy="1146240"/>
            </a:xfrm>
          </p:grpSpPr>
          <p:sp>
            <p:nvSpPr>
              <p:cNvPr id="238" name=""/>
              <p:cNvSpPr/>
              <p:nvPr/>
            </p:nvSpPr>
            <p:spPr>
              <a:xfrm>
                <a:off x="3644640" y="4779360"/>
                <a:ext cx="2293920" cy="1146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843360" y="5344200"/>
                <a:ext cx="632160" cy="5148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976920" y="5495040"/>
                <a:ext cx="447840" cy="3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Α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90880" y="5295240"/>
                <a:ext cx="696960" cy="5479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06440" y="5377320"/>
                <a:ext cx="4993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R</a:t>
                </a:r>
                <a:r>
                  <a:rPr b="1" lang="el-GR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26720" y="4829400"/>
                <a:ext cx="207936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Δραστηριότητα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 flipH="1">
              <a:off x="1415880" y="4038480"/>
              <a:ext cx="348480" cy="68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12520" y="4038480"/>
              <a:ext cx="1862640" cy="71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42440" y="3989520"/>
              <a:ext cx="2696400" cy="7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26240" y="3440880"/>
              <a:ext cx="146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644640" y="2502360"/>
              <a:ext cx="702720" cy="37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4ο Συνέδριο "Διδακτική της Πληροφορικής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999A-A84F-4A10-A702-97B5DFC821E9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57200" y="404640"/>
            <a:ext cx="8229600" cy="57214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659640" y="1916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516360" y="191628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443640" y="33577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83200" y="2060640"/>
            <a:ext cx="15595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l-GR" sz="18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διδακτικ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υποενότη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43640" y="3429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9640" y="3429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6443640" y="4076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83200" y="3429000"/>
            <a:ext cx="15595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l-GR" sz="18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διδακτικ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υποενότη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43640" y="41497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659640" y="4149720"/>
            <a:ext cx="0" cy="57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6443640" y="472428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54480" y="4149720"/>
            <a:ext cx="14958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l-GR" sz="18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διδακτικ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υποενότη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6443640" y="4797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659640" y="4797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443640" y="5013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54480" y="4869000"/>
            <a:ext cx="15595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l-GR" sz="18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διδακτικ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υποενότη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4ο Συνέδριο "Διδακτική της Πληροφορικής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C6F9-08B0-4D9D-ACF9-152641CAFE9F}" type="slidenum">
              <a:t>9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1:06:31Z</dcterms:created>
  <dc:creator>Maria Skiadelli</dc:creator>
  <dc:description/>
  <dc:language>en-US</dc:language>
  <cp:lastModifiedBy>maria skiadelli</cp:lastModifiedBy>
  <dcterms:modified xsi:type="dcterms:W3CDTF">2008-03-28T14:55:32Z</dcterms:modified>
  <cp:revision>76</cp:revision>
  <dc:subject/>
  <dc:title>Αξιοποίηση του moodle</dc:title>
</cp:coreProperties>
</file>